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F242-DDC6-4441-BE85-C13A2174F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81BA-589B-452A-AB18-C7EA3081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DB85-C190-43B3-969C-80EDD8CCC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AA26-2B8D-4784-9A89-39A9FC0D2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EA48-3107-45CE-AF1D-6DB7229C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6233-CA9D-4549-B9F9-3561F935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3328-9C53-42B8-9994-EB7EBFD4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C83D-A764-497C-A7AA-322F71F1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4CE4-97D5-42DD-A7DB-E6BA20A7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5CBD-73CF-45A1-9E4E-3E96E2B2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FDC0-6F47-4A6E-B202-BDC2EC7A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237B-773B-4E20-88C0-DDAEDDF3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D4A9-B72F-4871-A65E-F6AB6EAFA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odore-roosevelt.com/trr19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7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TR and the Trusts"/>
          <p:cNvPicPr/>
          <p:nvPr/>
        </p:nvPicPr>
        <p:blipFill>
          <a:blip r:embed="rId1"/>
          <a:stretch/>
        </p:blipFill>
        <p:spPr>
          <a:xfrm>
            <a:off x="1523880" y="0"/>
            <a:ext cx="6129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2209680" y="0"/>
            <a:ext cx="4953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2247840" y="380880"/>
            <a:ext cx="46357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trmiddle20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7360" y="0"/>
            <a:ext cx="5640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Walk Softly and Carry a Big Stick"/>
          <p:cNvPicPr/>
          <p:nvPr/>
        </p:nvPicPr>
        <p:blipFill>
          <a:blip r:embed="rId1"/>
          <a:stretch/>
        </p:blipFill>
        <p:spPr>
          <a:xfrm>
            <a:off x="0" y="50760"/>
            <a:ext cx="9144000" cy="67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tr"/>
          <p:cNvPicPr/>
          <p:nvPr/>
        </p:nvPicPr>
        <p:blipFill>
          <a:blip r:embed="rId1"/>
          <a:stretch/>
        </p:blipFill>
        <p:spPr>
          <a:xfrm>
            <a:off x="1066680" y="0"/>
            <a:ext cx="693432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15:03:57Z</dcterms:created>
  <dc:creator>Emily Dolci</dc:creator>
  <dc:description/>
  <dc:language>en-US</dc:language>
  <cp:lastModifiedBy>Dom Lambek</cp:lastModifiedBy>
  <dcterms:modified xsi:type="dcterms:W3CDTF">2015-01-06T20:56:07Z</dcterms:modified>
  <cp:revision>3</cp:revision>
  <dc:subject/>
  <dc:title>Slide 1</dc:title>
</cp:coreProperties>
</file>