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9B54-0349-40CA-BEAA-D5EE7D00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644-56C5-4EC6-AE28-148B0EB8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C9C-B1CD-4BFA-8729-C5DD997D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D6F-DC9E-4D87-87EB-C0CD0656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8D89-4B43-4584-9F77-3F7FA824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829-A3CB-4B75-89C5-68AEA0BC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2D6-109D-4E0E-940B-B24C1C71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3C4-3989-4CA4-A655-355073D0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DC27-C6EC-4CBE-9C06-6A8FF4E9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338-EF36-4DB9-9D07-C9FD3EF9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FDF-BE1A-4E7E-B944-457B0B14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43A-C62C-4ADA-9255-46D59FD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624B-F3AF-4325-B832-7AB682B59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odore-roosevelt.com/trr19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R and the Trusts"/>
          <p:cNvPicPr/>
          <p:nvPr/>
        </p:nvPicPr>
        <p:blipFill>
          <a:blip r:embed="rId1"/>
          <a:stretch/>
        </p:blipFill>
        <p:spPr>
          <a:xfrm>
            <a:off x="1523880" y="0"/>
            <a:ext cx="61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209680" y="0"/>
            <a:ext cx="495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247840" y="380880"/>
            <a:ext cx="4635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rmiddle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7360" y="0"/>
            <a:ext cx="564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Walk Softly and Carry a Big Stick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tr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3:57Z</dcterms:created>
  <dc:creator>Emily Dolci</dc:creator>
  <dc:description/>
  <dc:language>en-US</dc:language>
  <cp:lastModifiedBy>Dom Lambek</cp:lastModifiedBy>
  <dcterms:modified xsi:type="dcterms:W3CDTF">2015-01-06T20:56:07Z</dcterms:modified>
  <cp:revision>3</cp:revision>
  <dc:subject/>
  <dc:title>Slide 1</dc:title>
</cp:coreProperties>
</file>