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7753-90B0-4118-B4F4-335A50A7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65B-3DB4-4E27-98C4-358A9F3D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1691-AEC8-4D3D-8258-298517C8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E82C-CFF8-4979-BF23-9AB0C0D4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EFBA-EF6A-411A-B5A7-E684CEEE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D3C-AE95-473F-8546-F1B4DE88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CAB-35DB-4A9C-8B4C-DA515B2E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072-9B9B-4F5D-BAEB-8EDC7B38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8CC4-E683-4ABE-BE5F-B0680948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5EC6-F1A2-4D09-AE37-AC49CE9B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394-606F-4528-93F5-96431F74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66E-12D1-4F3B-B93A-D6771BEA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DB12-9F53-4AAB-87C9-61AE747D8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odore-roosevelt.com/trr19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TR and the Trusts"/>
          <p:cNvPicPr/>
          <p:nvPr/>
        </p:nvPicPr>
        <p:blipFill>
          <a:blip r:embed="rId1"/>
          <a:stretch/>
        </p:blipFill>
        <p:spPr>
          <a:xfrm>
            <a:off x="1523880" y="0"/>
            <a:ext cx="612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2209680" y="0"/>
            <a:ext cx="495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2247840" y="380880"/>
            <a:ext cx="46357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trmiddle2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7360" y="0"/>
            <a:ext cx="564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Walk Softly and Carry a Big Stick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tr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03:57Z</dcterms:created>
  <dc:creator>Emily Dolci</dc:creator>
  <dc:description/>
  <dc:language>en-US</dc:language>
  <cp:lastModifiedBy>Dom Lambek</cp:lastModifiedBy>
  <dcterms:modified xsi:type="dcterms:W3CDTF">2015-01-06T20:56:07Z</dcterms:modified>
  <cp:revision>3</cp:revision>
  <dc:subject/>
  <dc:title>Slide 1</dc:title>
</cp:coreProperties>
</file>