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33E9-63EB-469D-871E-5DDA36805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04C-8E32-44D8-B1BA-D210209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86FB-E8A3-4FA5-A4C7-AFEF465E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1C2-160F-4697-8110-5E1FE3AA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815-9012-44B3-BF6B-EF57E76E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DD0-C6AF-44C4-B40D-F99CB5B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0445-684C-490B-B3E0-F31C17B9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0BF-92F1-4028-9F0C-46CAB734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238-0BEC-45ED-978B-4E1D4B3C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5AF-6AC3-4B1C-9640-F9C279C6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2538-EEE0-4AA7-8618-B890CE34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A6B-4E37-4413-9447-EAB4F584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002E5-11F7-41A1-B20C-41F195EA7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68200"/>
            <a:ext cx="9070920" cy="61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rait of Daniel Shays and Job Shattuck, two of the leaders of the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8480" y="182880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the rebellion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786 to early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ful attack on the Springfield Armory was on January 25,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i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45943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y did Shays and other farmers reb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volutionary War, Massachusetts raised property taxes to pay off debt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inflation made the paper money issued by the state nearly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could not pay the taxes were put in debtors' prison and had their land se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fications for voting were raised, so that you had to own lan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methods of rebellion did they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 against tax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courthouses so that debt hearings could no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into jails to let out indebte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seize weapons from the state armory, with the intention of then attacking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0760"/>
            <a:ext cx="9118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ow did political and business leaders respond to Shays’ Rebell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cared that this rebellion could lead to another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state legislature (at Sam Adams urging) passed new stric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t Act:  banned public meetings at which any mention of rebellion was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all speech critical of the gov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beus Cor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owed for people to be put in jail without charges or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business leaders from Boston raised a militia to go and put down the rebe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changes to U.S. government  did Shays’ Rebellion help bring abou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057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hays' Rebellion was quickly put down, it scared national leaders like 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lt that there should be a stronger central government to deal with future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tronger central government would prevent states (like Mass.) from enacting bad laws like those Shays had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ter 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al Convention called in Philadelphia in 1787 to re-work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quickly decide to scrap the Articles and create a whole new plan of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ke John Adams, James Madison, and Alexander Hamilton) want a much stronger central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posed this idea, out of fear that a stronger central gov't could lead to tyranny (like what they had just fought against in the Revolutionary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uch debate, the Federalists basically get thei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itution (the new plan of gov't) gives the central, or Federal, government much more power than the Articles of Confederation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enough of the Anti-Federalists to approve the Constitution, the Bill of Rights is added as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ll of Rights protects individual rights and freedoms from an abusive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07:40Z</dcterms:created>
  <dc:creator/>
  <dc:description/>
  <dc:language>en-US</dc:language>
  <cp:lastModifiedBy/>
  <cp:revision>1</cp:revision>
  <dc:subject/>
  <dc:title/>
</cp:coreProperties>
</file>