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FFE2-3842-4C8B-81D4-BEB4D22A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16B-C51F-476E-80C8-21849913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3C29-281D-4640-919C-A96486B4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DB28-52EC-4551-9F94-E2DDBB28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300-64BD-4FF2-B8CE-A41B7AB4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A46-36AC-4E97-B15E-FCBF3F86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0785-5079-42EF-8A20-DF7CB23C5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3FF-C7E6-4951-8143-9C343402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42A-DF1A-49ED-8FBF-D3EB30AB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59A-8D26-4ED1-8707-FC6DCAAF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E79D-C7E3-45DF-9F09-AB856425B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F31-DD85-4B71-8E6B-13B88D49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6395F-72BA-40FD-A040-BFF504C47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168200"/>
            <a:ext cx="9070920" cy="6189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rtrait of Daniel Shays and Job Shattuck, two of the leaders of the rebell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8480" y="1828800"/>
            <a:ext cx="65311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685800"/>
            <a:ext cx="90709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id the rebellion take pl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 1786 to early 17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teful attack on the Springfield Armory was on January 25, 178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id i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ern Massachuse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4114800"/>
            <a:ext cx="525780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486400" y="4114800"/>
            <a:ext cx="45943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9920" y="2286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Why did Shays and other farmers rebe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Revolutionary War, Massachusetts raised property taxes to pay off debt from the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inflation made the paper money issued by the state nearly worth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could not pay the taxes were put in debtors' prison and had their land se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fications for voting were raised, so that you had to own land to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at methods of rebellion did they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s against tax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courthouses so that debt hearings could not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ke into jails to let out indebted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ed to seize weapons from the state armory, with the intention of then attacking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50760"/>
            <a:ext cx="9118440" cy="20066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ow did political and business leaders respond to Shays’ Rebellio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scared that this rebellion could lead to another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achusetts state legislature (at Sam Adams urging) passed new stric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ot Act:  banned public meetings at which any mention of rebellion was being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ned all speech critical of the gov'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278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d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beus Cor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allowed for people to be put in jail without charges or a t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tical and business leaders from Boston raised a militia to go and put down the rebell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at changes to U.S. government  did Shays’ Rebellion help bring abou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9920" y="205740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Shays' Rebellion was quickly put down, it scared national leaders like George 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felt that there should be a stronger central government to deal with future rebe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, a stronger central government would prevent states (like Mass.) from enacting bad laws like those Shays had protes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es after Shays' Rebel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itutional Convention called in Philadelphia in 1787 to re-work the Articles of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legates quickly decide to scrap the Articles and create a whole new plan of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ike John Adams, James Madison, and Alexander Hamilton) want a much stronger central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-Federal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pposed this idea, out of fear that a stronger central gov't could lead to tyranny (like what they had just fought against in the Revolutionary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much debate, the Federalists basically get their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titution (the new plan of gov't) gives the central, or Federal, government much more power than the Articles of Confederation h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enough of the Anti-Federalists to approve the Constitution, the Bill of Rights is added as a compr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ll of Rights protects individual rights and freedoms from an abusive gov'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12:07:40Z</dcterms:created>
  <dc:creator/>
  <dc:description/>
  <dc:language>en-US</dc:language>
  <cp:lastModifiedBy/>
  <cp:revision>1</cp:revision>
  <dc:subject/>
  <dc:title/>
</cp:coreProperties>
</file>