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09439-249C-4F36-AD4A-018FEB833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768CA-1519-4746-BD82-34C077E76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E2FFD-689F-47F6-8B49-14A6055B8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ABD3B-14F4-4AEC-9B81-0276E4019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30DCD-4656-4C64-B4E1-933DCE98E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38461-7B22-4FF6-B345-8FA37B3ED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6C17D-EE4F-43CE-B4E0-7BE56A9CB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C7DAC-4FD3-4CA6-B486-D0D639A9E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BC5205-38AE-465C-B14E-BD86FF895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BC466-1A96-4857-9532-FA4197655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75A9C-548C-4210-87CC-C6CDF40A7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AD5BE-FB51-4395-8325-F84D9F1E4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8FBCD-F545-42B1-88E8-17739F619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0C1-E65B-4C42-9B9A-724E2CD1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572-D66F-4521-97BD-395048B4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631-DD63-4D39-8F4C-68845345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371-EB91-40EA-B5AB-81AE5CD7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C780-0E9A-4444-921D-4576652C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333-19E9-4B53-BFB3-829B7C7B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8EC-8420-4E58-BA73-11CFD216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2A78-3F9B-4CE1-A70C-FE908BBD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3E46-113E-466D-AE8E-121A9A0B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59E-8C33-4B21-9A76-AB518599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68BD-64EC-4639-9950-31DCCEF8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81A2-76E8-4F9C-B5BD-1B8A5CA0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73FE8-F641-4C2E-BE79-8492F98549D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9920" y="1180800"/>
            <a:ext cx="90709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very Compromise Laws Review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question: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Westward Expansion raise the debate over slavery in the U.S.?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80010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.  Most of the Supreme Court Justices who decided the Dred Scott case were slave-owners themselv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0.  The Dred Scott decision effectively took away political rights from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mericans of African descent, including blacks living freely in the North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.  “Abolitionist” is another word for someone who believed slavery should be allowed in the United States.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lse.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litionists believed that slavery was wrong and needed to be eliminate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.  Maine became a state in 1820 as a “trade-off” with Missouri (where slavery was allowed)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503280" y="304920"/>
            <a:ext cx="90709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ior to 1820, a balance was maintained in the House of Representatives on slavery, as there were 11 free states and 11 slave states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alse.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was in the Senate where the balance was important, since each state is equally represented t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The Missouri Compromise attempted to create a permanent solution to the question of slavery and national expansion by drawing a line at the 36°30” line of latitude, north of which would be “free” and south of which would be “slave.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.  California became a “free” state with the Compromise of 185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601560" y="86040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gitive Slave Law said that any slave that escaped from the South would be free if they could reach the free Northern stat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lse.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aw required all citizens, including those in the North, to assist with the capture of runaway slav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oncept of popular sovereignty was that the issue of whether or not slavery would be allowed in new states would be decided with one big nation-wide vo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lse.  Under popular sovereignty, each state or territory would determine its laws on slavery through a popular vote in that state or territo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olence was used only by pro-slavery forces in Kansas, who were trying to influence an important territory-wide vote on the issue of slaver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se.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litionists, such as John Brown, used brutal violence to try to influence the vote as well.  The territory became known as “Bleeding Kansas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5:37:07Z</dcterms:created>
  <dc:creator/>
  <dc:description/>
  <dc:language>en-US</dc:language>
  <cp:lastModifiedBy>Dominic Lambek</cp:lastModifiedBy>
  <dcterms:modified xsi:type="dcterms:W3CDTF">2014-05-29T14:05:27Z</dcterms:modified>
  <cp:revision>1</cp:revision>
  <dc:subject/>
  <dc:title>Slavery Compromise Laws Review  Focus question:   How did Westward Expansion raise the debate over slavery in the U.S.?   </dc:title>
</cp:coreProperties>
</file>