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5F8C2-4179-4D4F-B81D-E57CAB84A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F823D-3699-4B00-BCD1-FD5DA211B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D6E92-6F0F-4384-BA7F-CFA07AE6B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C587F-32A7-4C55-A49F-39F9D37F9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29359-9570-4361-80D1-38C24BEC3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AE350-363E-4B6A-BDD2-BB46E994E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C0318-73E2-4B53-A149-E2B7CF2A0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8D549-779D-4FA4-A3FD-C4D68EEFC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7EAEF-1E62-4AC7-A917-9E9F35390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151FE-FC3F-4DD2-A833-28AF1F757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12F032-0872-4FC7-8EED-96E0A832D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7BC82-320B-48D4-96F9-AEDA27DA8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24FA5-F233-401D-96E8-3ADBE1418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5E55-2D98-447D-B70A-73F5BD821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6EF3-FC2E-4A2D-9AEA-12CDFA2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98C-2A46-47BE-82C6-E16F4D23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6BAF-8678-4E95-A22F-603D7BD0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E97-06A4-4CB8-9782-A510242C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D116-767F-4B40-A259-E5079B7A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9D1-992E-4E5B-9A7B-98014AC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D775-9EE3-4250-BC6C-DA620D2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C20-BA62-4667-ABCE-753790F3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1A72-A52E-41D5-BCDA-72B2D7BB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B7D3-6D92-451E-9180-9C5384F8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750-0E41-45DB-941B-70D08738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AFFB2-C6B1-4C58-B36D-B5C63B701D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180800"/>
            <a:ext cx="9070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 Compromise Laws Review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stward Expansion raise the debate over slavery in the U.S.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8001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.  Most of the Supreme Court Justices who decided the Dred Scott case were slave-owners themsel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 The Dred Scott decision effectively took away political rights from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mericans of African descent, including blacks living freely in the Nort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 “Abolitionist” is another word for someone who believed slavery should be allowed in the United State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ists believed that slavery was wrong and needed to be eliminate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 Maine became a state in 1820 as a “trade-off” with Missouri (where slavery was allowed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4920"/>
            <a:ext cx="90709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or to 1820, a balance was maintained in the House of Representatives on slavery, as there were 11 free states and 11 slave states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in the Senate where the balance was important, since each state is equally represent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The Missouri Compromise attempted to create a permanent solution to the question of slavery and national expansion by drawing a line at the 36°30” line of latitude, north of which would be “free” and south of which would be “slave.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 California became a “free” state with the Compromise of 185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01560" y="86040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gitive Slave Law said that any slave that escaped from the South would be free if they could reach the free Northern sta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aw required all citizens, including those in the North, to assist with the capture of runaway sla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cept of popular sovereignty was that the issue of whether or not slavery would be allowed in new states would be decided with one big nation-wide vo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.  Under popular sovereignty, each state or territory would determine its laws on slavery through a popular vote in that state or terri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olence was used only by pro-slavery forces in Kansas, who were trying to influence an important territory-wide vote on the issue of slave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litionists, such as John Brown, used brutal violence to try to influence the vote as well.  The territory became known as “Bleeding Kansas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5:37:07Z</dcterms:created>
  <dc:creator/>
  <dc:description/>
  <dc:language>en-US</dc:language>
  <cp:lastModifiedBy>Dominic Lambek</cp:lastModifiedBy>
  <dcterms:modified xsi:type="dcterms:W3CDTF">2014-05-29T14:05:27Z</dcterms:modified>
  <cp:revision>1</cp:revision>
  <dc:subject/>
  <dc:title>Slavery Compromise Laws Review  Focus question:   How did Westward Expansion raise the debate over slavery in the U.S.?   </dc:title>
</cp:coreProperties>
</file>