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61BD2-6BBF-4C3C-B6A6-F6D3C592B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E904C-9230-4882-9D38-237B1A635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91D6B-EEBF-4236-B48B-2ACE9F67B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60CD9-63CB-4174-B2D4-ED2028205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4BD8F-52B4-4300-98DA-F08708611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9736A-993E-44CD-B415-FDB72A27D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23C30-A03E-44A9-B21B-3AF97F9F1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676B5-9F3E-4DB9-98DA-CEA324E31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37265-95CF-4F9F-89F4-BAC5EFB66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73F0D-2CC5-4C33-B765-F36239809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391FA-B550-4B58-A93D-957528642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98F15-8858-4104-9BE7-14FEE578F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4122E-89DD-4F3B-80F0-6198767DC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A1BD-334D-4FB1-9208-A293FAD2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0E3E-FF44-41D8-BD6F-59F12711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C9AB-EC8F-4836-9C13-5EBD52C4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6955-D3FF-499E-9FEA-F609FA7C4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DCCC-3F5D-425C-AF7F-542003278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BB66-761A-4B55-81F7-A989AF66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E2B3-40CC-45FC-9A9D-4EDD3984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4BC1-DA6A-4CC5-85F4-B3B19D55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3DFD-2372-4192-B98D-41F6D253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575B-6383-4EFE-ABBD-2D5310F5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D920-5342-4085-A5A2-15CC5B5D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712C-D31E-46C6-8141-1E993A62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156E8-48CB-42C9-8AE0-8F3C8834A40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9920" y="1180800"/>
            <a:ext cx="907092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avery Compromise Laws Review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question: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id Westward Expansion raise the debate over slavery in the U.S.?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80010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9.  Most of the Supreme Court Justices who decided the Dred Scott case were slave-owners themselv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0.  The Dred Scott decision effectively took away political rights from </a:t>
            </a:r>
            <a:r>
              <a:rPr b="0" i="1" lang="en-US" sz="4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mericans of African descent, including blacks living freely in the North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.  “Abolitionist” is another word for someone who believed slavery should be allowed in the United States.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lse.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olitionists believed that slavery was wrong and needed to be eliminated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2.  Maine became a state in 1820 as a “trade-off” with Missouri (where slavery was allowed)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503280" y="304920"/>
            <a:ext cx="907092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rior to 1820, a balance was maintained in the House of Representatives on slavery, as there were 11 free states and 11 slave states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alse.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was in the Senate where the balance was important, since each state is equally represented the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 The Missouri Compromise attempted to create a permanent solution to the question of slavery and national expansion by drawing a line at the 36°30” line of latitude, north of which would be “free” and south of which would be “slave.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5.  California became a “free” state with the Compromise of 1850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601560" y="86040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24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6.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ugitive Slave Law said that any slave that escaped from the South would be free if they could reach the free Northern stat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alse.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law required all citizens, including those in the North, to assist with the capture of runaway slav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52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oncept of popular sovereignty was that the issue of whether or not slavery would be allowed in new states would be decided with one big nation-wide vot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lse.  Under popular sovereignty, each state or territory would determine its laws on slavery through a popular vote in that state or territor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olence was used only by pro-slavery forces in Kansas, who were trying to influence an important territory-wide vote on the issue of slaver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se.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litionists, such as John Brown, used brutal violence to try to influence the vote as well.  The territory became known as “Bleeding Kansas.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05:37:07Z</dcterms:created>
  <dc:creator/>
  <dc:description/>
  <dc:language>en-US</dc:language>
  <cp:lastModifiedBy>Dominic Lambek</cp:lastModifiedBy>
  <dcterms:modified xsi:type="dcterms:W3CDTF">2014-05-29T14:05:27Z</dcterms:modified>
  <cp:revision>1</cp:revision>
  <dc:subject/>
  <dc:title>Slavery Compromise Laws Review  Focus question:   How did Westward Expansion raise the debate over slavery in the U.S.?   </dc:title>
</cp:coreProperties>
</file>