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EF8-7DF7-415D-8C2D-963CCFC7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DD5-4EAE-46C2-AC1E-639FDBBD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92BC-681B-495F-9B97-C308E615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CB18-D544-4DDF-9E9D-D8FE198BE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C064-B9FB-4B18-B787-71546D687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B689-8E22-451C-9675-6ACA425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7B89-0EE3-4C9A-BF17-C0011960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0665-016E-49D8-82AA-E9444FA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487D-FD74-4AE7-AE43-8E86BBA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B50C-8068-483E-A83A-F6B1184C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85C7-3DDD-4519-97A4-635B02ED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2D81-5890-44EE-95EB-F051DC7A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1757-B668-4E24-8F64-FE3CB3DF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214-9645-4FD6-B445-0C97B990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E72-6472-446B-AB92-D3A55F41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F760-F325-4037-9815-60A6FA27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6E064-98BA-4888-9015-0E477370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14D-1AB7-4CF4-A0F0-F722C654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B6F-C8FC-4A50-A75C-BDDEFB08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8F27-EA3E-4B9C-B634-9BEDDD82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250-058D-4DB8-B7C6-D08F1B70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6B71-9F26-455E-9A94-A340CD43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713-3E82-494F-A776-C553ED30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B98-BB0C-49C3-A780-9902E7828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0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880" y="6248160"/>
            <a:ext cx="129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F853E-A991-4B6E-8EF1-3075FB82B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1680"/>
            <a:ext cx="1440" cy="13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38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160"/>
            <a:ext cx="15210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5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160"/>
            <a:ext cx="1216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E617952F-662F-4C98-88AF-61C6377AE111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eaching religion in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Moment of si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ible Cl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1957320" cy="16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But Not Invented When Bill of Rights Was Writ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s &amp; P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