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png" ContentType="image/png"/>
  <Override PartName="/ppt/media/image20.wmf" ContentType="image/x-wmf"/>
  <Override PartName="/ppt/media/image57.wmf" ContentType="image/x-wmf"/>
  <Override PartName="/ppt/media/image19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5.wmf" ContentType="image/x-wmf"/>
  <Override PartName="/ppt/media/image15.wmf" ContentType="image/x-wmf"/>
  <Override PartName="/ppt/media/image24.wmf" ContentType="image/x-wmf"/>
  <Override PartName="/ppt/media/image59.jpeg" ContentType="image/jpeg"/>
  <Override PartName="/ppt/media/image1.wmf" ContentType="image/x-wmf"/>
  <Override PartName="/ppt/media/image31.wmf" ContentType="image/x-wmf"/>
  <Override PartName="/ppt/media/image38.jpeg" ContentType="image/jpeg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7.wmf" ContentType="image/x-wmf"/>
  <Override PartName="/ppt/media/image42.wmf" ContentType="image/x-wmf"/>
  <Override PartName="/ppt/media/image43.png" ContentType="image/png"/>
  <Override PartName="/ppt/media/image44.jpeg" ContentType="image/jpeg"/>
  <Override PartName="/ppt/media/image45.jpeg" ContentType="image/jpeg"/>
  <Override PartName="/ppt/media/image51.wmf" ContentType="image/x-wmf"/>
  <Override PartName="/ppt/media/image48.jpeg" ContentType="image/jpeg"/>
  <Override PartName="/ppt/media/image52.wmf" ContentType="image/x-wmf"/>
  <Override PartName="/ppt/media/image54.jpeg" ContentType="image/jpeg"/>
  <Override PartName="/ppt/media/image49.jpeg" ContentType="image/jpeg"/>
  <Override PartName="/ppt/media/image55.jpeg" ContentType="image/jpeg"/>
  <Override PartName="/ppt/media/image53.png" ContentType="image/png"/>
  <Override PartName="/ppt/media/image58.jpeg" ContentType="image/jpeg"/>
  <Override PartName="/ppt/media/image56.png" ContentType="image/png"/>
  <Override PartName="/ppt/media/image39.jpeg" ContentType="image/jpeg"/>
  <Override PartName="/ppt/media/image41.wmf" ContentType="image/x-wmf"/>
  <Override PartName="/ppt/media/image37.png" ContentType="image/png"/>
  <Override PartName="/ppt/media/image40.wmf" ContentType="image/x-wmf"/>
  <Override PartName="/ppt/media/image36.png" ContentType="image/png"/>
  <Override PartName="/ppt/media/image47.png" ContentType="image/png"/>
  <Override PartName="/ppt/media/image35.jpeg" ContentType="image/jpeg"/>
  <Override PartName="/ppt/media/image3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0.jpeg" ContentType="image/jpeg"/>
  <Override PartName="/ppt/media/image8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35D6-2204-449C-B9B0-F99C59D4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C24-B071-4B7A-BDE8-DAD6DE7F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52C-EEE0-4420-B7D1-365A10F2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4B4-F893-4F35-A712-63651F0A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4591-16FC-4E34-9642-6DE9AD68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5265-A311-4A43-8CFA-845462A1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E93F-2DC4-4AA1-AFCE-51C11131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4A79-12CC-4E0D-9AD9-382C18C0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925B-AB3B-4ACF-B32C-AC0F556B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1B08-D9D4-43A0-8306-486235712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671A-90D8-44F9-853C-3D35B229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4A3-9011-4A30-B9C8-598143A9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B40D-CDF1-44D0-899A-055300B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4F97-C5DF-4AC1-920B-7C348AC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1A68-2D03-40D7-915A-525F01CE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3F2B-8CA2-42C7-B95F-6ECC1833F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268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2200" y="190476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52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268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2200" y="4052520"/>
            <a:ext cx="22561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918A-6040-4CF3-9B0F-50744F7F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78C-3CFA-467C-9589-11DCFD02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270-37FF-4A08-9FC3-A4B6196C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BC81-E4D2-4190-B93D-429AE18F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520" y="190440"/>
            <a:ext cx="7007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F6F-4A48-4D7C-9BE0-1FB65F72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3E7A-4C82-40ED-8C64-9602769C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4160" y="405252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2533-2F2A-42FF-BC0C-82C1DC32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4160" y="1904760"/>
            <a:ext cx="341928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520" y="4052520"/>
            <a:ext cx="700740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1DD-1B60-46E0-BC57-6797D66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007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904760"/>
            <a:ext cx="700740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0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720" y="6248160"/>
            <a:ext cx="289224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880" y="6248160"/>
            <a:ext cx="129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C3D28-44CB-4944-A07B-1D35515F2C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1680"/>
            <a:ext cx="1440" cy="130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38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160"/>
            <a:ext cx="15210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5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680" y="6248160"/>
            <a:ext cx="12160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435A10E-40ED-4193-B20A-7A93564347B3}" type="slidenum">
              <a:rPr b="0" lang="en-US" sz="1400" spc="-1" strike="noStrike">
                <a:solidFill>
                  <a:srgbClr val="336666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144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55623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he First 10 Amend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71800"/>
            <a:ext cx="31431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Freedom To Peti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verbal or wr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must listen but does not have to agree or make chan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officials have to have public addresses, phone numbers and usually email for citizens to use to contact th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34280" y="838080"/>
            <a:ext cx="1809720" cy="1803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0492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215040" y="4492800"/>
            <a:ext cx="292896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Speec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more than speech – includes gestures, clothing and hair style, art, music, bumper stic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57800" y="4994280"/>
            <a:ext cx="198108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038480" y="3352680"/>
            <a:ext cx="1676520" cy="1981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010280" y="3352680"/>
            <a:ext cx="1694160" cy="1752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57200" y="3429000"/>
            <a:ext cx="1812960" cy="1914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1676520" y="4952880"/>
            <a:ext cx="21333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7315200" y="609480"/>
            <a:ext cx="1828800" cy="14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Limit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Hate Speech – cannot target a group based race, color, religion, ancestry, national origin, gender, physical or mental disability or sexual ori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666880" y="4343400"/>
            <a:ext cx="436428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ear and Present Dang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lling “fire” in a crowded the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incite a rio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threaten to harm a person or a person’s prop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1879560" cy="127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553080" y="4419720"/>
            <a:ext cx="1854360" cy="1819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724280" y="4191120"/>
            <a:ext cx="1417680" cy="2120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1905120" y="4114800"/>
            <a:ext cx="251928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Obsceni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rcial speech – public radio and 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dity – nudity in and of itself cannot be declared obscene simply to protect minors.  Avert the eyes test: can the person who is offended look the other wa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762120"/>
            <a:ext cx="7058160" cy="54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ch that is lies and intends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lande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ken lies with intent to h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2666880"/>
            <a:ext cx="4114800" cy="3743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380880" y="2590920"/>
            <a:ext cx="411480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con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bear arms &amp; a well-regulated milit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vernment can place limits on types of weapons a citizen can own and can require a waiting peri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1789200" cy="2724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751120" cy="153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800000"/>
                </a:solidFill>
                <a:latin typeface="Arial"/>
              </a:rPr>
              <a:t>Third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vernment cannot force you to quarter soldiers during peac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3352680" cy="281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6666"/>
                </a:solidFill>
                <a:latin typeface="Arial"/>
              </a:rPr>
              <a:t>Amendment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5 freedo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lig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sembl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s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tition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8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eech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2590920"/>
            <a:ext cx="2644920" cy="304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Four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search or seizure without a warr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eptions: fear of immediate danger, if they see, hear, smell something illeg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ool lockers &amp; parking lot – public property and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mendment protections do not a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4120" cy="21906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264440" y="0"/>
            <a:ext cx="1879560" cy="2438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358040" y="4952880"/>
            <a:ext cx="17859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Fifth Amendment</a:t>
            </a:r>
            <a:r>
              <a:rPr b="0" lang="en-US" sz="4200" spc="-1" strike="noStrike">
                <a:solidFill>
                  <a:srgbClr val="660066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ue process – follow proper procedu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double jeopardy – cannot be tried for the same crime tw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self-incrimination – cannot be forced to testify against yourself or your spo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nent domain – right of the government to take private property for public u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16040" cy="20113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88604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054760" y="1752480"/>
            <a:ext cx="4089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01000" cy="49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186840"/>
            <a:ext cx="701064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701064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Six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eedy, public trial by ju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call witnesses for you and to question witnesses against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lawy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19920" y="4038480"/>
            <a:ext cx="2889000" cy="248616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80880" y="4114800"/>
            <a:ext cx="3078360" cy="24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00"/>
                </a:solidFill>
                <a:latin typeface="Arial"/>
              </a:rPr>
              <a:t>Seven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a jury trial in civil cases over $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28600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791320" y="2895480"/>
            <a:ext cx="2514600" cy="34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Eighth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excessive bail or f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ruel or unusual punish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4191120"/>
            <a:ext cx="3162240" cy="16761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92600" y="3363840"/>
            <a:ext cx="1951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have more rights than those listed in the 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Right to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41400" cy="1631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2762280" cy="26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en-US" sz="42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0000"/>
                </a:solidFill>
                <a:latin typeface="Arial"/>
              </a:rPr>
              <a:t> Amend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s reserved to the st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long as the Constitution doesn’t forbid states a right, they retain that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6172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99"/>
                </a:solidFill>
                <a:latin typeface="Arial"/>
              </a:rPr>
              <a:t>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Parts – Government cannot establish an official religion &amp; Government cannot interfere with an individual’s practice of his/he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Teaching religion in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Moment of si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Prayers at graduation or before sports ev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Bible Cl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86400" y="4952880"/>
            <a:ext cx="1957320" cy="1652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1803240" cy="152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1550880" cy="18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s on Freedom of Relig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not do drugs, practice human sacrifice or otherwise break the law and defend it as part of your reli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7920" y="3429000"/>
            <a:ext cx="1752480" cy="2368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3657600"/>
            <a:ext cx="26668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336666"/>
                </a:solidFill>
                <a:latin typeface="Arial"/>
              </a:rPr>
              <a:t>Freedom of Assembl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2514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citizens’ rights to gather in grou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Must be peac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annot block a public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Government can require a permit but the rules for that have to be the same for al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200400" y="1066680"/>
            <a:ext cx="3057480" cy="1586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4800600"/>
            <a:ext cx="1820880" cy="1630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477120" y="3124080"/>
            <a:ext cx="19018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6666"/>
                </a:solidFill>
                <a:latin typeface="Arial"/>
              </a:rPr>
              <a:t>Freedom of the Pr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010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ght to publish and Right to access or read materi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ff0066"/>
                </a:solidFill>
                <a:latin typeface="Arial"/>
              </a:rPr>
              <a:t>Limi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bel – printed lies with intent to h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bloi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ild in budget the cost of law s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ories from outside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nd people who don’t care what is said as long as they get in the n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86600" y="3352680"/>
            <a:ext cx="1778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37800"/>
            <a:ext cx="7010640" cy="18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Arial"/>
              </a:rPr>
              <a:t>Protected But Not Invented When Bill of Rights Was Writt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339840"/>
                <a:tab algn="l" pos="452520"/>
                <a:tab algn="l" pos="909720"/>
                <a:tab algn="l" pos="1366920"/>
                <a:tab algn="l" pos="1824120"/>
                <a:tab algn="l" pos="2281320"/>
                <a:tab algn="l" pos="2738520"/>
                <a:tab algn="l" pos="3195720"/>
                <a:tab algn="l" pos="3652920"/>
                <a:tab algn="l" pos="4110120"/>
                <a:tab algn="l" pos="4567320"/>
                <a:tab algn="l" pos="5024520"/>
                <a:tab algn="l" pos="5481720"/>
                <a:tab algn="l" pos="5938920"/>
                <a:tab algn="l" pos="6396120"/>
                <a:tab algn="l" pos="6853320"/>
                <a:tab algn="l" pos="7310520"/>
                <a:tab algn="l" pos="7767720"/>
                <a:tab algn="l" pos="8224920"/>
                <a:tab algn="l" pos="8682120"/>
                <a:tab algn="l" pos="91393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s &amp; PD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381400" cy="189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1650960" cy="180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477120" y="4038480"/>
            <a:ext cx="1904760" cy="19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886200" y="4572000"/>
            <a:ext cx="180324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ff0066"/>
                </a:solidFill>
                <a:latin typeface="Arial"/>
              </a:rPr>
              <a:t>Censorship &amp; Pornograph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t/Literature or Smut?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92120" indent="-49212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Old 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uld the average adult in the community find it pornographic?  Is it “tending t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corruption of morals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 to be too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492120"/>
                <a:tab algn="l" pos="604800"/>
                <a:tab algn="l" pos="1062000"/>
                <a:tab algn="l" pos="1519200"/>
                <a:tab algn="l" pos="1976400"/>
                <a:tab algn="l" pos="2433600"/>
                <a:tab algn="l" pos="2890800"/>
                <a:tab algn="l" pos="3348000"/>
                <a:tab algn="l" pos="3805200"/>
                <a:tab algn="l" pos="4262400"/>
                <a:tab algn="l" pos="4719600"/>
                <a:tab algn="l" pos="5176800"/>
                <a:tab algn="l" pos="5634000"/>
                <a:tab algn="l" pos="6091200"/>
                <a:tab algn="l" pos="6548400"/>
                <a:tab algn="l" pos="7005600"/>
                <a:tab algn="l" pos="7462800"/>
                <a:tab algn="l" pos="7920000"/>
                <a:tab algn="l" pos="8377200"/>
                <a:tab algn="l" pos="8834400"/>
                <a:tab algn="l" pos="92916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11400" cy="28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New Te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4760" y="19051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work as a whole appeal to the prurient interest? PRURIENT INTEREST - A morbid, degrading and unhealthy interest in sex, as distinguished from a mere candid interest in s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depicts or describes sexual conduct in a patently offensiv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 as a whole lacks serious literary, artistic, political, or scientif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9880" indent="0">
              <a:spcBef>
                <a:spcPts val="601"/>
              </a:spcBef>
              <a:buNone/>
              <a:tabLst>
                <a:tab algn="l" pos="0"/>
                <a:tab algn="l" pos="99072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84744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374328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3716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476440" cy="1523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28600" y="114300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66"/>
                </a:solidFill>
                <a:latin typeface="Arial"/>
              </a:rPr>
              <a:t>****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391520" y="5410080"/>
            <a:ext cx="17524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4:15Z</dcterms:created>
  <dc:creator>ptaylor</dc:creator>
  <dc:description/>
  <dc:language>en-US</dc:language>
  <cp:lastModifiedBy>ptaylor</cp:lastModifiedBy>
  <dcterms:modified xsi:type="dcterms:W3CDTF">2007-03-14T15:35:05Z</dcterms:modified>
  <cp:revision>15</cp:revision>
  <dc:subject/>
  <dc:title>The Bill of Rights</dc:title>
</cp:coreProperties>
</file>