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90D3-974D-4648-820D-DFA4C1DF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B23A-7DEB-4A7A-B521-371DAECF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257-8F69-45C7-8984-69D5B0A8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FC90-2872-4EB2-ACB6-E14DF07FB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267-BF3C-4217-9692-AC676EA8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612-E247-46A7-8D84-34A4539A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C82-A8E5-4181-A912-661FFE58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22F7-87DC-4A6F-A8F7-31856B88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076-9BA3-4575-BB7E-A2F84F20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2C84-74C2-4556-930E-2379816B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A259-B9EA-430E-AA2B-B8F87487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AF6-E9DC-4914-B348-79A36D99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56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561B-D19F-48FD-A518-E4FDFFA63269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12600" y="6858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af20"/>
                </a:solidFill>
                <a:latin typeface="Segoe Print"/>
              </a:rPr>
              <a:t>THE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OVEREIG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579840" y="624852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46" name="Rounded Rectangle 2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5-Point Star 2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-Point Star 2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-Point Star 2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5-Point Star 2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3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66" name="Rounded Rectangle 23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4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5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6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27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8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9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0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3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87" name="Rounded Rectangle 24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5-Point Star 25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5-Point Star 2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5-Point Star 2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5-Point Star 2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9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3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3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3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09" name="Rounded Rectangle 25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5-Point Star 26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-Point Star 27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5-Point Star 28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5-Point Star 29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1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2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3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34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5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32" name="Rounded Rectangle 26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5-Point Star 27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5-Point Star 28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5-Point Star 29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5-Point Star 30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4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5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56" name="Rounded Rectangle 27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5-Point Star 28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5-Point Star 29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5-Point Star 30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5-Point Star 31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32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3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4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5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81" name="Rounded Rectangle 2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5-Point Star 2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5-Point Star 3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5-Point Star 3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5-Point Star 3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3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3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4114800" y="5475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07" name="Rounded Rectangle 2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5-Point Star 3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5-Point Star 3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5-Point Star 3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5-Point Star 3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3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3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3962520" y="547560"/>
            <a:ext cx="51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34" name="Rounded Rectangle 3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5-Point Star 3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5-Point Star 3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5-Point Star 3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5-Point Star 3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7"/>
          <p:cNvSpPr/>
          <p:nvPr/>
        </p:nvSpPr>
        <p:spPr>
          <a:xfrm>
            <a:off x="3962520" y="547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62" name="Rounded Rectangle 3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5-Point Star 3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5-Point Star 3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5-Point Star 3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5-Point Star 3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3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3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4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10666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eature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 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7"/>
          <p:cNvSpPr/>
          <p:nvPr/>
        </p:nvSpPr>
        <p:spPr>
          <a:xfrm>
            <a:off x="3962520" y="5475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0"/>
          <p:cNvSpPr/>
          <p:nvPr/>
        </p:nvSpPr>
        <p:spPr>
          <a:xfrm>
            <a:off x="5648400" y="1428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91" name="Rounded Rectangle 3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5-Point Star 3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5-Point Star 3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5-Point Star 3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5-Point Star 3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4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152280" y="68580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THA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3"/>
          <p:cNvSpPr/>
          <p:nvPr/>
        </p:nvSpPr>
        <p:spPr>
          <a:xfrm>
            <a:off x="152280" y="55627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ounded Rectangular Callout 5"/>
          <p:cNvSpPr/>
          <p:nvPr/>
        </p:nvSpPr>
        <p:spPr>
          <a:xfrm>
            <a:off x="2514600" y="1447920"/>
            <a:ext cx="4267080" cy="1523880"/>
          </a:xfrm>
          <a:prstGeom prst="wedgeRoundRectCallout">
            <a:avLst>
              <a:gd name="adj1" fmla="val -66222"/>
              <a:gd name="adj2" fmla="val 64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Is the United States just one big st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2247840" y="38862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224784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2247840" y="5257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247840" y="5943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1"/>
          <p:cNvSpPr/>
          <p:nvPr/>
        </p:nvSpPr>
        <p:spPr>
          <a:xfrm>
            <a:off x="73152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ounded Rectangular Callout 5"/>
          <p:cNvSpPr/>
          <p:nvPr/>
        </p:nvSpPr>
        <p:spPr>
          <a:xfrm>
            <a:off x="2163600" y="1447920"/>
            <a:ext cx="4770720" cy="1676160"/>
          </a:xfrm>
          <a:prstGeom prst="wedgeRoundRectCallout">
            <a:avLst>
              <a:gd name="adj1" fmla="val -48967"/>
              <a:gd name="adj2" fmla="val 76231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What about 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“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states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”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 like Connecticut or Georg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Are they sta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8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82296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0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163600" y="38862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2163600" y="45720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163600" y="52578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2163600" y="59436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ular Callout 4"/>
          <p:cNvSpPr/>
          <p:nvPr/>
        </p:nvSpPr>
        <p:spPr>
          <a:xfrm>
            <a:off x="2438280" y="457200"/>
            <a:ext cx="5029200" cy="2362320"/>
          </a:xfrm>
          <a:prstGeom prst="wedgeRoundRectCallout">
            <a:avLst>
              <a:gd name="adj1" fmla="val -56296"/>
              <a:gd name="adj2" fmla="val 87513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 50 states can</a:t>
            </a:r>
            <a:r>
              <a:rPr b="0" lang="ja-JP" sz="3600" spc="-1" strike="noStrike">
                <a:solidFill>
                  <a:srgbClr val="1a560a"/>
                </a:solidFill>
                <a:latin typeface="Berlin Sans FB"/>
              </a:rPr>
              <a:t>’</a:t>
            </a: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 make laws that go against the U.S. Constitutio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ular Callout 6"/>
          <p:cNvSpPr/>
          <p:nvPr/>
        </p:nvSpPr>
        <p:spPr>
          <a:xfrm>
            <a:off x="2438280" y="3733920"/>
            <a:ext cx="3962520" cy="1828800"/>
          </a:xfrm>
          <a:prstGeom prst="wedgeRoundRectCallout">
            <a:avLst>
              <a:gd name="adj1" fmla="val 62537"/>
              <a:gd name="adj2" fmla="val 37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y have a higher authority above the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sally.png"/>
          <p:cNvPicPr/>
          <p:nvPr/>
        </p:nvPicPr>
        <p:blipFill>
          <a:blip r:embed="rId2"/>
          <a:stretch/>
        </p:blipFill>
        <p:spPr>
          <a:xfrm>
            <a:off x="6629400" y="3235320"/>
            <a:ext cx="2279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5228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Min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Qui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4920" y="16765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A state can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’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 have less than 30,000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unded Rectangular Callout 4"/>
          <p:cNvSpPr/>
          <p:nvPr/>
        </p:nvSpPr>
        <p:spPr>
          <a:xfrm rot="643800">
            <a:off x="2356920" y="1916280"/>
            <a:ext cx="6426360" cy="2151000"/>
          </a:xfrm>
          <a:prstGeom prst="wedgeRoundRectCallout">
            <a:avLst>
              <a:gd name="adj1" fmla="val -43384"/>
              <a:gd name="adj2" fmla="val 10504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a560a"/>
                </a:solidFill>
                <a:latin typeface="Tahoma"/>
                <a:ea typeface="Tahoma"/>
              </a:rPr>
              <a:t>Monaco has only 27,000 peopl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4"/>
          <p:cNvSpPr/>
          <p:nvPr/>
        </p:nvSpPr>
        <p:spPr>
          <a:xfrm>
            <a:off x="304920" y="19810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boundaries of a territory can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ivan.png"/>
          <p:cNvPicPr/>
          <p:nvPr/>
        </p:nvPicPr>
        <p:blipFill>
          <a:blip r:embed="rId1"/>
          <a:stretch/>
        </p:blipFill>
        <p:spPr>
          <a:xfrm>
            <a:off x="6696000" y="1136520"/>
            <a:ext cx="2224080" cy="553572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ular Callout 4"/>
          <p:cNvSpPr/>
          <p:nvPr/>
        </p:nvSpPr>
        <p:spPr>
          <a:xfrm rot="20567400">
            <a:off x="480960" y="1903320"/>
            <a:ext cx="5921280" cy="1322640"/>
          </a:xfrm>
          <a:prstGeom prst="wedgeRoundRectCallout">
            <a:avLst>
              <a:gd name="adj1" fmla="val 49231"/>
              <a:gd name="adj2" fmla="val 12529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Can you name the three ways that boundarie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"/>
          <p:cNvSpPr/>
          <p:nvPr/>
        </p:nvSpPr>
        <p:spPr>
          <a:xfrm>
            <a:off x="2006640" y="3809880"/>
            <a:ext cx="42670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Negoti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urchasing land from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5"/>
          <p:cNvSpPr/>
          <p:nvPr/>
        </p:nvSpPr>
        <p:spPr>
          <a:xfrm flipH="1">
            <a:off x="0" y="3276720"/>
            <a:ext cx="9144000" cy="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Population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6168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 body of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eople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4648320" y="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Terri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Sovereign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64832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5029200" y="1447920"/>
            <a:ext cx="3581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living in a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defined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0" y="4267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 the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ower to make and enforce laws 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out having to check with any higher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0" y="457200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nd with an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organization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4"/>
          <p:cNvSpPr/>
          <p:nvPr/>
        </p:nvSpPr>
        <p:spPr>
          <a:xfrm>
            <a:off x="380880" y="1752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overeignty means that you have to check with someone above you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ounded Rectangular Callout 4"/>
          <p:cNvSpPr/>
          <p:nvPr/>
        </p:nvSpPr>
        <p:spPr>
          <a:xfrm rot="643800">
            <a:off x="2463480" y="1558800"/>
            <a:ext cx="6424560" cy="3346560"/>
          </a:xfrm>
          <a:prstGeom prst="wedgeRoundRectCallout">
            <a:avLst>
              <a:gd name="adj1" fmla="val -46587"/>
              <a:gd name="adj2" fmla="val 66662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Just the opposite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overeignty means there is NO ONE above you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65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380880" y="150192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Government only exists to keep order and provide securit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ivan.png"/>
          <p:cNvPicPr/>
          <p:nvPr/>
        </p:nvPicPr>
        <p:blipFill>
          <a:blip r:embed="rId1"/>
          <a:stretch/>
        </p:blipFill>
        <p:spPr>
          <a:xfrm>
            <a:off x="6705720" y="1335240"/>
            <a:ext cx="2224080" cy="5535360"/>
          </a:xfrm>
          <a:prstGeom prst="rect">
            <a:avLst/>
          </a:prstGeom>
          <a:ln w="0">
            <a:noFill/>
          </a:ln>
        </p:spPr>
      </p:pic>
      <p:sp>
        <p:nvSpPr>
          <p:cNvPr id="470" name="Rounded Rectangular Callout 4"/>
          <p:cNvSpPr/>
          <p:nvPr/>
        </p:nvSpPr>
        <p:spPr>
          <a:xfrm rot="20567400">
            <a:off x="54000" y="1911240"/>
            <a:ext cx="6426000" cy="1768680"/>
          </a:xfrm>
          <a:prstGeom prst="wedgeRoundRectCallout">
            <a:avLst>
              <a:gd name="adj1" fmla="val 45759"/>
              <a:gd name="adj2" fmla="val 102555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560a"/>
                </a:solidFill>
                <a:latin typeface="Tahoma"/>
                <a:ea typeface="Tahoma"/>
              </a:rPr>
              <a:t>What are the four roles that governments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2133720" y="4103640"/>
            <a:ext cx="42670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rotect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Mak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Kee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Help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50 states that make up the USA are not considered independent 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“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tates.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”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2004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ed Rectangular Callout 4"/>
          <p:cNvSpPr/>
          <p:nvPr/>
        </p:nvSpPr>
        <p:spPr>
          <a:xfrm rot="643800">
            <a:off x="2801520" y="1517760"/>
            <a:ext cx="5681880" cy="2793960"/>
          </a:xfrm>
          <a:prstGeom prst="wedgeRoundRectCallout">
            <a:avLst>
              <a:gd name="adj1" fmla="val -45291"/>
              <a:gd name="adj2" fmla="val 77777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hat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 right! They don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 have full sovereignty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52280" y="10666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our Ro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58" name="Rounded Rectangle 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5-Point Star 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5-Point Star 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5-Point Star 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5-Point Star 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4102200" y="54756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4102200" y="547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76" name="Rounded Rectangle 1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5-Point Star 1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5-Point Star 2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-Point Star 2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5-Point Star 2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102200" y="547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730920" y="328608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92" name="Rounded Rectangle 1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-Point Star 2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5-Point Star 2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-Point Star 2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-Point Star 2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886200" y="5475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09" name="Rounded Rectangle 2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-Point Star 2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5-Point Star 2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-Point Star 2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-Point Star 2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5475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27" name="Rounded Rectangle 2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5-Point Star 2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5-Point Star 2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5-Point Star 2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5-Point Star 2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6:59:32Z</dcterms:created>
  <dc:creator>sf6</dc:creator>
  <dc:description/>
  <dc:language>en-US</dc:language>
  <cp:lastModifiedBy>Student Teacher</cp:lastModifiedBy>
  <dcterms:modified xsi:type="dcterms:W3CDTF">2014-04-04T18:07:48Z</dcterms:modified>
  <cp:revision>108</cp:revision>
  <dc:subject/>
  <dc:title>Features of Government</dc:title>
</cp:coreProperties>
</file>