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124BC-A994-4238-BB43-4581F5DBA31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A1E738-FC48-4515-B495-140057B3B9E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 name="PlaceHolder 1"/>
          <p:cNvSpPr>
            <a:spLocks noGrp="1"/>
          </p:cNvSpPr>
          <p:nvPr>
            <p:ph type="sldImg"/>
          </p:nvPr>
        </p:nvSpPr>
        <p:spPr>
          <a:xfrm>
            <a:off x="1143000" y="685800"/>
            <a:ext cx="4570560" cy="3427560"/>
          </a:xfrm>
          <a:prstGeom prst="rect">
            <a:avLst/>
          </a:prstGeom>
          <a:ln w="0">
            <a:noFill/>
          </a:ln>
        </p:spPr>
      </p:sp>
      <p:sp>
        <p:nvSpPr>
          <p:cNvPr id="73" name="PlaceHolder 2"/>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4989A3-DD1B-4EB9-B4CA-E4AFE20EA842}"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May 4, 1970: Kent State University in Ohio.  After several days of anti-war protests and riots on campus, National Guard troops fired into a crowd of students, killing four and wounding nine others.  Photo by journalism student John Filo, who won a Pulitzer Prize for it.  The Kent State shootings prompted protests and a general student strike at hundreds of colleges and high schools around the n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83E76-2AC5-4414-B8FF-B5FED15B831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975: Evacuees try to board an Air America helicopter on roof of an apartment building near the U.S. embassy in Saigon as North Vietnamese troops approach the city.  The building housed the CIA Station Chief and many of his officers and their families.  Most Vietnamese employees of the American offices were left behind.  Photo by Huber Van 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B323C7-9321-4977-8643-7C6A878C3B1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bute to fallen soldi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09DBE-7067-4E4D-804D-8FA05EF947D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Soldier Firing His Machine Gun </a:t>
            </a:r>
            <a:br>
              <a:rPr sz="1200"/>
            </a:br>
            <a:br>
              <a:rPr sz="1200"/>
            </a:br>
            <a:r>
              <a:rPr b="0" lang="en-US" sz="1200" spc="-1" strike="noStrike">
                <a:solidFill>
                  <a:srgbClr val="e1dede"/>
                </a:solidFill>
                <a:latin typeface="Verdana"/>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6C39C9-D40A-46E7-8897-A72C86E3E64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U.S. Marines walking through a swamp in South Vietnam while on patrol in 196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FD135-117E-49BF-AFA4-5AE7D3E9402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3. Thich Quang Duc, a Vietnamese Buddhist monk, setting himself on fire in protest of the South Vietnamese government of Ngo Dinh Diem, which was being supported by the U.S.  Photo by Malcom Browne, who won  a Pulizter Prize for this pho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A98EA-781F-4E65-94A4-20E7CD3C60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FE421F-67FF-435E-BDD0-90F11788DF0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 young Viet Cong sc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55BD45-416E-483C-8B09-C2430EFFF61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neral Nguyen Ngoc Loan, the South Vietnamese national police commander, executes a Viet Cong prisoner on a Saigon street during the Tet Offiensive in 1968.  Photo by Eddie Adams.  This photo helped strengthen resistance in the U.S. to the war.  General Loan ended up immigrating to the U.S., where he lived in Virginia and ran a pizza parlor until his death in 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5731A6-9D96-4682-A9CD-383224E374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ror of War” by Huynh Cong "Nick" Ut,  June 8, 1972</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rth Vietnamese children flee their village after a napalm bombing by the South Vietnamese military.  This photo won the Pulitzer Prize for News Photography in 1973.  The 9-year old girl in the center, Kim Phuc, suffered severe burns from the napalm.  Ut, the photographer, brought her to the hospital after taking the photo.  Phuc would recover after a 14-month hospital stay and many surgeries.  She now lives in Canad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559100-82DB-4B4A-A404-E2EC0DD8EA0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8 Democratic National Convention in Chicago.  The convention drew tens of thousands of anti-war protesters, and was marked by several days of non-violent protest, riots, and violent confrontations with Chicago police and National Guard troops.  It marked the culmination of a particularly violent year in American history, including increasingly tense protests, riots in over 100 cities, and the assassinations of Martin Luther King Jr. and Senator Robert Kennedy (who had been running for Presid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E22A8-87A3-4C84-80D1-684D1E31F6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FAFC1-0118-4B28-AE80-E5892A449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04BD-B8BF-49A9-8571-3F5CBCC3D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24101-3169-4EB3-AD39-C1964F049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D459F-4A73-47AD-B84F-533209832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28A3-0690-405D-A1C2-15F98FDDD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3127F-80FF-47F1-ADC8-32BCE4D28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CF074-7708-46B7-9DA5-DD03FF049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7AFD1-A3DC-4EDC-9237-775E76A2A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CC5CA-E7BB-4548-B189-C376BA962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CB86C-DE5B-4DE2-9C15-204F04D7F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B567-7A2C-49D4-891D-36130FFD8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541BF-7A80-4502-AC6B-6A76C1DCE05D}"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Mini-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mini-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8" name="Picture 2"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801800" y="0"/>
            <a:ext cx="553896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04920" y="4680"/>
            <a:ext cx="85341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Thích_Quảng_Đức_self-immolation.jpg"/>
          <p:cNvPicPr/>
          <p:nvPr/>
        </p:nvPicPr>
        <p:blipFill>
          <a:blip r:embed="rId1"/>
          <a:stretch/>
        </p:blipFill>
        <p:spPr>
          <a:xfrm>
            <a:off x="304920" y="685800"/>
            <a:ext cx="8475480" cy="551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43000" y="1146240"/>
            <a:ext cx="6705720" cy="4673520"/>
          </a:xfrm>
          <a:prstGeom prst="rect">
            <a:avLst/>
          </a:prstGeom>
          <a:ln w="0">
            <a:noFill/>
          </a:ln>
        </p:spPr>
      </p:pic>
      <p:pic>
        <p:nvPicPr>
          <p:cNvPr id="61" name="Picture 2"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533520"/>
            <a:ext cx="9144000" cy="577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7200" y="274680"/>
            <a:ext cx="8229600" cy="5440320"/>
          </a:xfrm>
          <a:prstGeom prst="rect">
            <a:avLst/>
          </a:prstGeom>
          <a:ln w="0">
            <a:noFill/>
          </a:ln>
        </p:spPr>
      </p:pic>
      <p:sp>
        <p:nvSpPr>
          <p:cNvPr id="65" name="Text Box 2"/>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 Lambek</cp:lastModifiedBy>
  <dcterms:modified xsi:type="dcterms:W3CDTF">2016-04-27T02:24:03Z</dcterms:modified>
  <cp:revision>28</cp:revision>
  <dc:subject/>
  <dc:title>PowerPoint Presentation</dc:title>
</cp:coreProperties>
</file>