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4692-86D0-4DDD-B8D4-06A5BE4C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DD97-9724-477E-BC2F-7D9B6587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B3AA-DA8D-4778-864D-6E647987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2F3-545F-4267-A685-A1C6BC695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7D14-2BAC-4556-8B63-666039CEF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CD5E-14AC-4417-BE6F-D7395962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414B-E5CC-4ACF-B1AC-34E7BFF6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8FFC-ACA0-4EFC-BE4B-4FF0349F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C160-83EC-4D82-B042-220FFA8A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8A1C-B940-43DE-A70E-A836FEBB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A5A3-9ED8-4503-9DE1-65FFE8EC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7EB-2EEB-48D6-80ED-EB3CAB7E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94B9-00A8-490D-9300-FCDF5546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1CE5-3468-4474-8C8D-C01417AC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426-A176-4811-BF12-56C12C6D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196A-E904-4887-B79D-7718C573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7928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4584600"/>
            <a:ext cx="285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11679-A1A0-45A3-97DE-93600FBD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4EE-4E97-4935-864B-0FBAA325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DF0-66EB-44F8-8A0D-B7FD69B2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6FF2-D21D-4DA3-B55C-25CB3D50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E60-CDE7-42BA-8060-07504854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9313-7B9D-4F16-8123-8E59C8B3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458460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759-41EB-4378-A3E4-CD71FDB4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79280"/>
            <a:ext cx="43203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4600"/>
            <a:ext cx="8853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3863-E36D-4243-AC76-4C3FC7E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5F6A4-1584-4942-BE2E-11C0E7A1F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3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12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56080" y="656280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335720" y="6562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48BE8F-FCC6-4EF1-9A76-37F0E064F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The Butter Battle Book</a:t>
            </a:r>
            <a:br>
              <a:rPr sz="4100"/>
            </a:b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Preview Questions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4114800" cy="55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What is an </a:t>
            </a: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parable</a:t>
            </a: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 story that makes a clear point, or teach a lesson, without actually stating the point outright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milar to an 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</a:rPr>
              <a:t>allegor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ile the book is being read, think about these two questions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at makes </a:t>
            </a:r>
            <a:r>
              <a:rPr b="0" i="1" lang="en-US" sz="2800" spc="-1" strike="noStrike">
                <a:solidFill>
                  <a:srgbClr val="000080"/>
                </a:solidFill>
                <a:latin typeface="Arial"/>
              </a:rPr>
              <a:t>The Butter Battle Book 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a parable?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1710000" indent="-567360">
              <a:lnSpc>
                <a:spcPct val="93000"/>
              </a:lnSpc>
              <a:spcAft>
                <a:spcPts val="1137"/>
              </a:spcAft>
              <a:buClr>
                <a:srgbClr val="ff6633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What point do you think Dr. Seuss is making with this story?  (He wrote it in 1984.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What do walls represent in society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do walls represent when they form a border between two countries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does the wall in the book represent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happens to the wall during the course of the book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371600" y="68580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In what ways is </a:t>
            </a:r>
            <a:r>
              <a:rPr b="0" i="1" lang="en-US" sz="4100" spc="-1" strike="noStrike">
                <a:solidFill>
                  <a:srgbClr val="280099"/>
                </a:solidFill>
                <a:latin typeface="Arial"/>
              </a:rPr>
              <a:t>The Butter Battle Book </a:t>
            </a: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a parable of the Cold War?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49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mpetition between the two countries for the most powerful weapons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division between the two countries over a very basic (though in this case silly) ide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role of science in leading towards greater destruct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 role of patriotism (the Butter-Up band and the cheerleaders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ven the name of the final weapon (the “Bitsy Big-Boy Boomeroo”) is a play on the bombs dropped on Japan (“Fat Man” and “Little Boy”)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21:58:02Z</dcterms:created>
  <dc:creator/>
  <dc:description/>
  <dc:language>en-US</dc:language>
  <cp:lastModifiedBy/>
  <cp:revision>1</cp:revision>
  <dc:subject/>
  <dc:title/>
</cp:coreProperties>
</file>