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81D4-4CE9-470C-8BA3-E16B1ABCE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4584600"/>
            <a:ext cx="8853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5D0B-6057-4C35-93E1-D51B96C0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458460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7080" y="458460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048A-48A9-44D6-A111-AD97550D2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3760" y="197928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7160" y="197928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458460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3760" y="458460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7160" y="458460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CA5E-12CF-40F7-B0F2-050AD5EE8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7D29D-2172-44AC-B424-922CC6BA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3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8CF8-E1F5-4EA4-B9F3-7F65B5F2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8A28-6ADB-423E-A003-B2C93E1F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99E8-B9C6-4FDF-A19E-694C5B9C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526A-8A49-4DD5-82B8-051EABE6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F3B2-444F-4CE6-AA5E-2A4825E0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360" y="458460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7CBC-8CC0-4504-8C87-0C5968C1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3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B281-FDAC-4318-9D3A-698FDA48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57080" y="458460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1AD8-4E79-46C9-A8DD-3DC2F65E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360" y="4584600"/>
            <a:ext cx="8853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D558-F741-4163-8A9C-4D2793B7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360" y="4584600"/>
            <a:ext cx="8853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BDC4-3933-4583-A80F-64E17E2E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360" y="458460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57080" y="458460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CC70-8FE2-4F6A-A3B7-58A4C3F56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3760" y="197928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07160" y="197928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360" y="458460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3760" y="458460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07160" y="458460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AC39-D0E4-4480-ABBF-8BCB0E83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A7E7-5560-49F8-B838-513950CB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3425-6A68-4026-96C2-21972A6C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3C96-41B4-47D7-A249-6B884302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3BE3-AFE1-4C55-9003-60B3FD4A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458460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93CA-E019-4B79-BB5C-0F25F851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7080" y="458460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6530-CAD3-4443-8096-0F57AF30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4584600"/>
            <a:ext cx="8853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E590-C795-4D84-9BBE-B1EF4982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F7BAE-4001-49C2-A451-AF1D25A0E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79280"/>
            <a:ext cx="8853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2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56080" y="6562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35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3F02B-8A58-474A-9F89-C94C95C80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100" spc="-1" strike="noStrike">
                <a:solidFill>
                  <a:srgbClr val="280099"/>
                </a:solidFill>
                <a:latin typeface="Arial"/>
              </a:rPr>
              <a:t>The Butter Battle Book</a:t>
            </a:r>
            <a:br>
              <a:rPr sz="4100"/>
            </a:b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Preview Questions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20360" y="1979640"/>
            <a:ext cx="8854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971800" y="1600200"/>
            <a:ext cx="4114800" cy="55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What is an </a:t>
            </a:r>
            <a:r>
              <a:rPr b="0" i="1" lang="en-US" sz="4100" spc="-1" strike="noStrike">
                <a:solidFill>
                  <a:srgbClr val="280099"/>
                </a:solidFill>
                <a:latin typeface="Arial"/>
              </a:rPr>
              <a:t>parable</a:t>
            </a: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?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492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A story that makes a clear point, or teach a lesson, without actually stating the point outright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milar to an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allegory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hile the book is being read, think about these two questions: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What makes </a:t>
            </a: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The Butter Battle Book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 parable?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What point do you think Dr. Seuss is making with this story?  (He wrote it in 1984.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What do walls represent in society?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4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hat do walls represent when they form a border between two countries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hat does the wall in the book represent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hat happens to the wall during the course of the book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4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371600" y="685800"/>
            <a:ext cx="77724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In what ways is </a:t>
            </a:r>
            <a:r>
              <a:rPr b="0" i="1" lang="en-US" sz="4100" spc="-1" strike="noStrike">
                <a:solidFill>
                  <a:srgbClr val="280099"/>
                </a:solidFill>
                <a:latin typeface="Arial"/>
              </a:rPr>
              <a:t>The Butter Battle Book </a:t>
            </a: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a parable of the Cold War?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49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Competition between the two countries for the most powerful weapon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e division between the two countries over a very basic (though in this case silly) idea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e role of science in leading towards greater destruction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e role of patriotism (the Butter-Up band and the cheerleaders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Even the name of the final weapon (the “Bitsy Big-Boy Boomeroo”) is a play on the bombs dropped on Japan (“Fat Man” and “Little Boy”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21:58:02Z</dcterms:created>
  <dc:creator/>
  <dc:description/>
  <dc:language>en-US</dc:language>
  <cp:lastModifiedBy/>
  <cp:revision>1</cp:revision>
  <dc:subject/>
  <dc:title/>
</cp:coreProperties>
</file>