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CCF0-F043-40B3-A0D7-B3222D45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83A-EC25-429B-8B7D-38FC3E23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F372-C850-4F33-AB08-95B403EA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B7A-BDEC-4A88-9B65-EA4D2124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1A66-B958-433A-A1B6-35522AEE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9DCF-F536-4525-96F2-ED1A9AAB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DACC-0D10-4EA6-8CA3-076C1975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8ECB-8029-4D38-9EB1-4DEB6FBC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72A8-18DD-43CA-A75E-FD541ED9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43C3-9FD3-4DB4-AFD2-CFCC1C48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1AB8-7695-467E-843E-E8598E18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6CF-28DD-4F6E-ABCD-82B1650F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8829-D374-4944-B966-47290162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3348A-CB92-4C26-B16C-83A0809D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A452-CD9A-42EF-A702-6C085F0C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DD54E-F3CA-45F7-8F6E-8BBB52C5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8575-C061-4A6A-ABA5-98D49C8D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0A8-B224-4058-BBF3-249F8DCE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15D8-71EC-47C6-B76B-8D70E17E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061-4AC1-43B1-A614-D8491282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B4B-4F31-4E90-959D-7383EC65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D18D-2A20-49D9-986E-B99204BA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53BE-AC48-4C22-8A2F-2366266B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9AE-14BC-4206-80B5-03D09121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03A0A-323C-400B-B0A6-F2A4AA7A3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1D85D-D3EE-481C-B734-46E769542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The Butter Battle Book</a:t>
            </a:r>
            <a:br>
              <a:rPr sz="4100"/>
            </a:b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Preview Questions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411480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What is an </a:t>
            </a: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parable</a:t>
            </a: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 story that makes a clear point, or teach a lesson, without actually stating the point outright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milar to an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allegor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ile the book is being read, think about these two questions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at makes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he Butter Battle Book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 parable?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at point do you think Dr. Seuss is making with this story?  (He wrote it in 1984.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What do walls represent in society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do walls represent when they form a border between two countries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does the wall in the book represent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happens to the wall during the course of the book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In what ways is </a:t>
            </a: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The Butter Battle Book </a:t>
            </a: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a parable of the Cold War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mpetition between the two countries for the most powerful weapon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division between the two countries over a very basic (though in this case silly) ide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role of science in leading towards greater destruct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role of patriotism (the Butter-Up band and the cheerleaders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ven the name of the final weapon (the “Bitsy Big-Boy Boomeroo”) is a play on the bombs dropped on Japan (“Fat Man” and “Little Boy”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21:58:02Z</dcterms:created>
  <dc:creator/>
  <dc:description/>
  <dc:language>en-US</dc:language>
  <cp:lastModifiedBy/>
  <cp:revision>1</cp:revision>
  <dc:subject/>
  <dc:title/>
</cp:coreProperties>
</file>