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DCDF-0FCB-4C53-BAE2-C790B978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0E66-4D82-4A4A-A0B2-54AA6A80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DEB0-EBB2-4E4A-8350-39092BA2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0D04-6297-43ED-B75D-6F7657D1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CB9-65C7-4EC0-9BBD-8FF42941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894-4F6B-4F8A-A695-BF2D0B2C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37D-E762-48BC-94B6-BC75BF3A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149A-C71C-4BFA-B31B-AF8B61C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995-1D29-45D3-888B-EE74B8A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54D9-3388-43DB-B6A5-436E6E80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12C-D1D3-41CF-865D-B594FD6F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947D-A7B1-4029-8C43-2228B64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92DEA-59D6-4517-B2CF-986B9F62B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on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2004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what events or conditions in the history does the Doctrine re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historical back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land-claims on North America (including California and 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throughout Latin America against Spanish and Portuguese coloni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Alliance” of Prussia (modern-day Germany), Austria, and Russia forms to restore monarchies in Europe after the defeat of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s does the Monroe Doctrine address American concerns for peace and safe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9920" y="2325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17:58Z</dcterms:created>
  <dc:creator/>
  <dc:description/>
  <dc:language>en-US</dc:language>
  <cp:lastModifiedBy/>
  <cp:revision>1</cp:revision>
  <dc:subject/>
  <dc:title/>
</cp:coreProperties>
</file>