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8107-DFB5-46E0-B656-B8ED635D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1490-10B0-49AE-BE3D-8C9E5075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37FC-3C26-4EEA-9A9A-5D64952E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7343-90A2-4622-AA16-23F1482A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0827-6665-45B5-B62F-6303FFED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6156-806D-4543-9603-4D572B32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D94-BBEF-47BF-AC12-C53B8D7C9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B007-F398-4EB5-B570-44964AB1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4A9-5C44-4E28-83EF-D898D436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DC2-B0A5-46BC-82FE-C874CC45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B5B-5A26-4831-9E5F-3552EC16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324B-5194-4751-955F-81A4AC3E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D944F-CC7D-42B1-9BEE-9E2772EB8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roe Doctrin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Mon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John Quincy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3200400" cy="3886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15000" y="2286000"/>
            <a:ext cx="320040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what events or conditions in the history does the Doctrine ref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9070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International historical backdr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n land-claims on North America (including California and Hawa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s throughout Latin America against Spanish and Portuguese colonial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y Alliance” of Prussia (modern-day Germany), Austria, and Russia forms to restore monarchies in Europe after the defeat of Napo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what ways does the Monroe Doctrine address American concerns for peace and safe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9920" y="2325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3:17:58Z</dcterms:created>
  <dc:creator/>
  <dc:description/>
  <dc:language>en-US</dc:language>
  <cp:lastModifiedBy/>
  <cp:revision>1</cp:revision>
  <dc:subject/>
  <dc:title/>
</cp:coreProperties>
</file>