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3E3-31FD-43E1-ACE1-1D937D74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303-57EF-4148-A239-89E360BB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CC7-9A47-4C4C-A3CB-47B43900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FFFE-84B9-49EA-B9EB-FCFE9B9D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B2C-7A56-475A-BAAD-104C9EA4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1A5A-12E0-41F9-8DCD-9F247D6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071-C1D3-45D0-A590-E9DBA28C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C16-26D6-48F3-B612-BE72EF5F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EE4A-65F1-495C-9433-C32F69E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1CE-D408-4CD6-A66A-085F66AD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1D2-6AFA-4753-9C06-05C159C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1694-D37C-4ECB-95EC-0FD5FD9B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921A5-ADCD-4A64-9529-C4A97A431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roe Doctrin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Monr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John Quincy A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3200400" cy="3886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200400" cy="39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what events or conditions in the history does the Doctrine ref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9070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International historical backdr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n land-claims on North America (including California and Hawa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olutions throughout Latin America against Spanish and Portuguese colonial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ly Alliance” of Prussia (modern-day Germany), Austria, and Russia forms to restore monarchies in Europe after the defeat of Napol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-4680"/>
            <a:ext cx="9070920" cy="1874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what ways does the Monroe Doctrine address American concerns for peace and safe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29920" y="23256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3:17:58Z</dcterms:created>
  <dc:creator/>
  <dc:description/>
  <dc:language>en-US</dc:language>
  <cp:lastModifiedBy/>
  <cp:revision>1</cp:revision>
  <dc:subject/>
  <dc:title/>
</cp:coreProperties>
</file>