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58D-DD02-414A-B7A6-5FA28D96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B6F2-D661-4151-B619-AD18B200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7921D-1B30-40D7-B030-6BABEA17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BCF45-8267-406B-95CE-E6DF7D09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0EDE3-9E39-41BC-9332-91A380E5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5070F-4C66-4193-B3CE-CE05CABF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C8BF8-8555-414E-A06D-3288CDA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BBF0C-6A11-4140-9A25-E450EDC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9939-E6B8-43CF-A82D-0DBFD21E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5210B-5B58-47AC-82E7-C50AB8D1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D1339-039C-41ED-960F-3A01949D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DE1-D066-44E0-BE69-1161D142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A60-1B50-4CAB-A231-625BB59A1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0597-2DFE-4434-9A5A-5C3A9F08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A4F8-AB55-4E85-AD30-AC3EAF4A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2E06-EC2E-4558-BFFB-E32152A6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9DCA-AD9E-4683-B4F3-BBC73FE4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4EAB-391D-4048-9695-492D3324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E5C8-5346-428A-987A-6E6B1058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1C4E-61F2-4F61-B7C9-4184156C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B3C-1E4C-44F9-B13D-D87BF738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2A5C-D445-49DC-9FA3-396EE37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6BD1-6BAF-474E-9AD2-8E53D7BC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4E4D-A931-4F78-9089-F07AD1D8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BE68-AA43-4485-8956-73095E7E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CB25-BC0F-45E4-B47B-06F9DE0C9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91723-3083-4637-A099-742499AD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6FB61-9AE7-4C63-B09E-F5D66C4B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47380-B1AA-4CA7-815F-88766B86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EF35-CF63-44AB-BE5C-5B28D785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564C-7C4B-4A5E-800D-4EAE4ABF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2D4-5F90-46AA-A7B6-4EF13761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25532-6619-477C-B2D6-00FAF8E2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02F5-8C27-4BB3-BD56-E23DD4C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7B30-FA46-4ADA-97EE-0E0854A0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ABAB-27B9-4489-A2A4-E99E6045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7F72-64C3-499A-9D0D-1A8AAB5C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BBBE7-4C09-4ABB-95EA-F38B1F15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14360-CFB5-4098-8D33-F105B7C2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ECBDE-BDD1-44CC-8AEA-1EAB9091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7E79-5871-4932-982B-4612A2E2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34A7-4367-4B78-9657-A9D2CC4A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33F-9930-44CE-B1CF-418F21B0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E6D6A-B5BB-4A5B-903B-8CDAEC7D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52A5-08BF-4F72-8CF4-237C7B64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B54B-2252-4A09-84B4-9B2C446A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BBD8E-0325-451D-82A8-FC4DF17D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BE88C-8C22-4308-8E07-C48D55C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71AB4-74D7-4A3B-8BC1-B90BB31F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E17CB-F6CA-4601-A828-151E0A13A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D3E6-9DEE-4C2D-B84E-8F1BB2C2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03A4B-949F-446A-ABDE-E9F4925CE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20CFA-10F5-468D-A3CC-D5C600CB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FFA7-AD96-420F-9BD2-B30E990ED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429D4-57F6-4BD0-A4DD-5F0F139F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B440-8CF7-459A-AEBF-0CBB2831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ABC5F-9E13-4223-9C6B-2063DE30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CA89A-E3B9-4ACC-98CD-CBB49B4B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DDB6-9E05-4450-9B92-C6AD5072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16D1F-1C10-49FD-A6CA-A0E2219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618B2-AEEC-4D07-AAE1-3AC4465F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D6CE-6F71-4442-AF71-D1DA5C87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283DF-2BD8-4C5F-8C38-D405A6C6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5F580-75C0-448B-B097-2E29712B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F898-C57A-40DF-A2B3-38E05102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C65FD-E7C2-43F8-9FC6-2E5FED9A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7B62D-66E1-4042-BD10-74E212A4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5BEF3-A28A-4AE0-9F7F-FE8BFBA0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C0A63-85B3-4491-A2D4-948A2AD0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8BADD-CDE5-4B06-B400-B0974DB1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3238-AB85-41DB-84FF-BFA7704C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1C33D-7D9A-4991-8077-C24E5B1B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4C3D6-8CBE-4560-AED9-E53E7015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EB043-137C-4E17-AB9B-E7056CB5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BEE03-9FB0-4ACA-A8CA-1DF3F645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9F8-4E0B-4DAB-A4A6-6D8550E9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E0BBF-1D47-47A5-814A-849101B5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DE6A0-0CCD-4125-B46E-F62378FEE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40FB7-B8F0-41BB-8615-EDA3EE99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DCE80-3121-4302-9F3C-C103B4BBA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69034-A586-4DE7-ABE8-64D1E0DF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5393A-3E7D-41F0-8B1F-D01C281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7E1F9-AB60-496B-B247-7396D8B5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B2147-8920-4D8E-9CF6-DCC579F2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6EEC5-7625-4C68-8177-10E3234A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E7693D-BB3B-4E14-A239-8E34721B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A4B-DB17-449B-951B-2B2A135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FCCF6-A73C-4506-812D-8B116A49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9BE0-FF78-4BBB-8E1E-42A598C3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8C79B-DB8E-4C46-A492-51961182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D5746-7536-4B90-8B23-B4FF7E59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EB7BC-9406-40A3-9BF8-BDD844ED8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DA36C-1CDC-425F-B97B-3FDF2076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B96D1-9B34-4808-8518-E2071287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38450-CEC9-4B6A-935F-603C0261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DF748-D593-4196-B6A8-BEE37B00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0AA90-17B9-4DF5-AD03-357A6371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4BD3-BA31-456F-B3D3-A2D29F5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4D80D-9B87-4282-8314-84AB3885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A5E2C4-BE0C-47BB-B436-369042E3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68760-FA7B-4DE3-ABD8-2279331D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9C9C7-E507-423E-AD77-E29B0B6E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50DAA-B67C-460A-8A56-75A3F65A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A433D-5A19-411F-8E85-5F5F275A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616A4-BCE2-4A07-AEB5-CF5BFB030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74180D-CADE-44BE-A8DC-63C68CE3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47D86-63A4-4C99-90EC-B2903B9F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C2C32-A7BA-4055-BDA4-81AA2B49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676F7-0C9A-4DC6-B3BB-7B208CA5F5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165DD-50C0-4022-B739-A1F2512BB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F2A20-56BC-4E34-85BC-419A02C67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43774-3DB5-4250-8E73-671A2A7BA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C2E06-9464-4CAE-BC0D-062AAD686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21603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0CC00-3357-449D-B694-2CA915F0B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46E10-BFA8-450F-8952-2EDDEF0FD6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E083B-754C-4904-9809-F4A69601E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7916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1404A-D7C5-41AF-B328-11C20A725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9920" y="1023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reating a new government: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The U.S. Constitution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Breaking down the Preamble...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What are the purposes of government?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We the people...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2743200"/>
            <a:ext cx="8854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s phrase establishes the idea of </a:t>
            </a: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popular sovereignty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:  the government gets its authority from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the will of the peop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5299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 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in Order to form a more perfect Union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20360" y="3429000"/>
            <a:ext cx="88549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How do the states unite to act as a single nation, for the good of all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means does the government have to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improve itself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(that is, to become “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more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perfect”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5920" y="84096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establish Justi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33240" y="2722320"/>
            <a:ext cx="8853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Name as many institutions/professions as you can that are part of the justice system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4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insure domestic Tranquility,…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programs, laws, government offices, etc. does the government provide in order to keep people safe and make life run smoothly within the country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647280"/>
            <a:ext cx="90694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vide for the common defen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List all of the things the governments does, builds, creates, or maintains to defend our countr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9069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mote the general Welfar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does the government do to make life better, easier, healthier, and more pleasant for all its citizens and resident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1360" y="67644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and secure the Blessings of Liberty to ourselves and our Posterity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freedoms and privileges are guaranteed to everyone in the country, including future generations (posterity)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68112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do ordain and establish this Constitution for the United States of America.”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20360" y="3885840"/>
            <a:ext cx="885348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o what kind of dealmaking had to take place in order for the Constitution to be created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23:47Z</dcterms:created>
  <dc:creator/>
  <dc:description/>
  <dc:language>en-US</dc:language>
  <cp:lastModifiedBy/>
  <cp:revision>1</cp:revision>
  <dc:subject/>
  <dc:title/>
</cp:coreProperties>
</file>