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F77C-9BA1-4D10-A8A6-84002139C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BB84-621A-4C04-A7F4-4FDED48E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B5365-DD05-4D66-B79F-35D0D3AD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9A707-515E-4FDB-B669-39669ABA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BFD01-1EED-47D7-BB66-2AFD7711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FFC6F-7D48-46A6-AE91-F0D77B33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566A1-87DD-4D0B-9F62-CB8EA802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51840-C958-47FE-99AB-0FE4DB4D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75CEE-32F9-4957-8CC1-3B34E614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3376F-0540-413E-9450-48D144F2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1BF45-F830-43AC-926A-2221402A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D66B-E5C2-47DE-B2F8-42A92ECE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C887-047F-41C6-B265-31725937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4AD0-7203-497A-BE8E-8C7475DF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2F46-AF0B-47B6-A7A5-4E1BAB82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90EC-3783-4810-B6CC-6CA1E2243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7D4-6C5B-40BF-8A82-4DF83327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B659-67B5-4BD6-ACFC-C9169EDF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DB75-51ED-48F3-AA3F-805E9271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4EED-6EFB-4385-B55B-8ECF1E8A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4637-DB29-4099-AFD4-05067C00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BECD-BA5E-4159-B5BA-A29D623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7B69-4F88-43F7-A506-EE25ECB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D634-A998-420A-B4FD-9D466110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52DC-5E95-4A41-885E-C31CB81A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B996-7EA4-4D8E-8363-B26B91930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A00CD-F598-49A9-84A9-07808A17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3A54-7F5A-4579-BFD7-2F215F4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8E1A9-36A2-4F7A-82E6-6A447683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7E041-81D1-4818-AB59-12D23524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2780-A71E-4E18-A884-D1B5616E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2B2-D6CE-47FB-A8ED-4A06FEDC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9FF96-E95C-4EF7-B1F3-D285762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245F0-1B69-4EA0-8076-A96702DA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5651D-A787-45E3-BADB-8FDB7E0E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EE9D-BDEE-43E1-9D8D-7F4547F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93E1-173D-4002-8360-817DA4E7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A55D8-2483-4006-BF73-B221277C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59E8-C777-480B-A94C-4B4BBF25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8F3E1-0A69-437B-ADD8-4CE1725D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E5C81-EE3F-4D3C-8B3A-DABD326E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37678-94E4-4614-A17E-8B777C6E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FA7-8DA2-409A-BAEA-B27E1ACB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1C910-1A1F-4C5D-971E-383518E7D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6DB2D-BE96-4A46-8B69-33301A3C5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463D0-54B3-4028-BBCD-80A2D253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73F0A-6D1B-4102-8744-0BDE5AA6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DA866-3D9B-4314-AF52-5F24FD8B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6FE62-C47C-461F-97DE-41009F8F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DAB57-C8E2-48B5-A080-F1DDD297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E14C-8772-453A-9099-745BDEC98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F8317-F85E-45AD-AEF7-1D7D7630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2DFAE-829C-4351-B060-4788DC33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C58-528B-451F-BD77-6B3DAF01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877B-C914-424B-A0DD-8D2FDC53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EE239-C806-4BFE-A1F1-7C083BEE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16B8-18E3-4E1A-9484-8572CE01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DB11-1B09-4079-A425-61E4DEBA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39D8F-92AB-4596-BE77-87FA26BF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1BA3-1ACB-472F-8ED5-F4BFBE71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7C8C9-31BB-4131-8BC4-CBAB329C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FBFB1-06A9-4C9F-9F4E-F1E8064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54F7A-11E3-4815-8092-E4285595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0FAD0-B830-43AD-A468-7FFBCFD3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704-4827-4378-94CA-541E4EEF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48B62-680A-4113-88BC-FFBB39A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72560-C829-40B0-BDCD-10BF4B3A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DABC-6632-454D-8AF1-B5FA35C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F6E48-27E5-49B8-8471-E4AEE606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17AED-C69C-4972-9D38-FDEA44BC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68B5-4602-4F0A-B9C7-0510DF75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516C4-AC70-4EB5-8F88-93A7B28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3D037-9765-4CF9-A07D-6494CDDB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F448-864C-48A0-972A-E46D7C2C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859C4-6055-4AA6-BABB-CD6F5526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4E28-9962-4591-816F-D6178FC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27839-0F61-4BA4-959F-713BF242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EA22D-FBB6-4C53-8D11-33EACBB8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FD1C9-F6A5-4082-9B5A-30572CCF5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FFFA5-4187-455E-8985-70F6EF86C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D00AF-905A-4394-9694-43745D2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A6AC4-D854-4190-B41D-1AED8CA5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B3D56-296D-43C8-AB23-D6C1BB6C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0B726-0DC0-4354-8141-D53F7BC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FB79-1E80-4DA8-8097-E58C4D18F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EB47A-F089-4B7C-A28D-00AA33D7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3C8-29B6-4B1D-8A5F-3DF592A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8E5FA-40A5-41BC-9DF9-933F9D1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B2EA-4357-4F6F-B8DE-94568989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46C9B-406B-4385-BB1A-BDB2675B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24618-4BCB-4C3B-ADFF-80BD8F27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3B285-DA89-4D36-B499-585528FF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523F-FBAB-42BD-91F7-4921C972F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9419B-352E-4EE3-A17F-E19B3930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F2636-CA7A-49C4-8099-3163D30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575CA-C34E-4246-B0AD-B5071632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9D74B-5117-4156-8F70-31A921E4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02E6-54A6-479C-9BA0-246A7BE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0AF44-8BC2-4159-9161-980C0707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DE111-7437-4F7C-BC58-3FA6834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02D46-BD3D-4A6C-9574-5F5EFA773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F2ABF-794D-46A0-8627-1ADB6828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71D06-1EAD-4E31-AAF1-5B8C3C200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19AC6-773B-42E8-A75D-97E0DF804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01554-97AC-4613-B91C-CD2EF0FB7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4CC5F-5481-4797-8D0F-4546C67E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68B25-686C-4B6C-9047-C352EE7F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0D638-FD7E-4229-86D2-9ED5C8A6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BB86A-772B-4C63-A487-456A62DA5A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C7383-14ED-4332-BAA2-AE333D6BC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FF7D0-A3DB-4451-87F2-CAB7BCCC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7EB2D-8628-4DBE-B096-72097DFE5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7C1A2-060E-4BD8-BC0D-0A3C93B85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E0EFF-C1C9-4C70-B36F-C78B4333E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AE50-A082-4B6F-A516-AFE5F1DEB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C1CDD-7A20-4CA7-822B-01AEB09431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791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5C631-2C76-45F1-856B-A437B99F2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9920" y="1023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reating a new government: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The U.S. Constitution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Breaking down the Preamble...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What are the purposes of government?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We the people...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2743200"/>
            <a:ext cx="88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s phrase establishes the idea of </a:t>
            </a: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opular sovereignt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:  the government gets its authority from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the will of the peop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299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 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in Order to form a more perfect Union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360" y="3429000"/>
            <a:ext cx="88549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How do the states unite to act as a single nation, for the good of al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means does the government have to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improve itself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(that is, to become “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more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perfect”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5920" y="8409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establish Justi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33240" y="2722320"/>
            <a:ext cx="8853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Name as many institutions/professions as you can that are part of the justice system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4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insure domestic Tranquility,…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programs, laws, government offices, etc. does the government provide in order to keep people safe and make life run smoothly within the country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647280"/>
            <a:ext cx="90694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vide for the common defen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List all of the things the governments does, builds, creates, or maintains to defend our count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9069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mote the general Welfar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does the government do to make life better, easier, healthier, and more pleasant for all its citizens and resident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67644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and secure the Blessings of Liberty to ourselves and our Posterity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freedoms and privileges are guaranteed to everyone in the country, including future generations (posterity)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68112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do ordain and establish this Constitution for the United States of America.”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20360" y="3885840"/>
            <a:ext cx="8853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 what kind of dealmaking had to take place in order for the Constitution to be created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23:47Z</dcterms:created>
  <dc:creator/>
  <dc:description/>
  <dc:language>en-US</dc:language>
  <cp:lastModifiedBy/>
  <cp:revision>1</cp:revision>
  <dc:subject/>
  <dc:title/>
</cp:coreProperties>
</file>