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9AE7-F684-4BA5-BFB8-48F96159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3730-2ECC-4B27-AB89-32D2462D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B3643-F429-457C-BA8E-FB4E1C5B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E2E22-5E5A-4913-9D62-EB62D83A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468BE-63F0-4A65-86F2-A02AAE78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0594E6-34EA-4646-8191-24DC99C1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545A9-1A17-4CB7-9154-CA53D897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BFA1E-2AB0-4950-9C63-75F55917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B0699-C6BE-42C8-A49F-F6D64C26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4A37E-0DB7-4B4B-B095-2923B07C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0AE78-FD8C-4955-A1C2-AFAB1B48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BFB-8D69-4C02-9457-70C2F062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C6CF-27C3-4251-87B3-A3D32AD0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EF11-EDA7-4867-8A9A-52253BAF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7FC55-FACE-47FE-A7F1-E347AF1C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F36D-F956-4596-B394-3A859694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FF63-B1F5-45B7-A727-918E559E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7C79-78F6-4465-BB6E-958C9345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AADD-46FA-4B68-B223-7C989409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07D6-302F-48B6-8D12-2B8C4508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B6D6-BD6E-4D73-AD4B-F3B6EB35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35FA-DF40-4FC5-8663-1D62D43F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9F35-EFE3-46CD-B5C6-931C168A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C706-0DD4-4C37-8850-F6EC7757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67D8-7364-4F5E-A35F-CF3B414C5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3A2C-47AC-4EA2-8BB4-4638A8BD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74C22-BE9B-4CBA-AE45-3BD0D9A6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03A36-8618-4620-83FA-EB567297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96C67-FA62-4C8B-9A1D-F4485BEA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0CEFA-5874-4721-9BE8-CF359AA3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445C7-9155-4D35-AC21-D48E697A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CD0-D5FA-4C7B-BE42-4F8C62A5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40E26-4C93-496F-9CE5-B9AFADE4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F094E-6345-4ABD-956E-48F4684D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BFE52-4DFB-44E4-8328-091B8258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98702-3C3D-4D5C-A34D-1E875012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B51CD-5DC7-432E-8981-D553749D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BA2F4-434A-4A89-B4F2-78FA6820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F5254-57D9-4CE3-AD9D-6C67EFF6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C0FB5-B708-422F-BF65-B1A3EBEE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17745-924F-43DD-A9CF-3EBF2A0F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4B0AB-6820-446A-9781-1A5BD505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13A5-B57D-4568-AA15-CB94543E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C1B86-A7DC-4D57-A437-64EB2A1B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F1A5B-9F7A-4ABF-ABB1-7EEF2AF8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B4712-6E8A-4DB3-8C94-17139DE61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6E490-5150-4EC8-9305-11E5B66A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41E3D-B43C-4E8E-A057-0851F8BE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94783-459A-4493-84D8-C292A9FE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BC274-6643-49CF-ADCA-920124B2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947CF-5502-4922-8F03-3766205B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0FDEC-CA46-4C3D-822F-A6B8FABBB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7D9AD-26A7-4175-9E7A-C8CBFFF4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6D7-CDE6-42AD-8469-E35881A5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5D32B-99F8-4CB1-863F-44CC5225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D16CB-7823-4ECD-82B5-6B24D887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42DDC-34C2-4498-96D3-5D7A1BA4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5B271-89B5-4A62-AD25-1E788E49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250B9-F39A-413C-B86F-C0123424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F0749-78C1-4CF2-870F-D8A35B58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60042-5954-4205-9528-C8716977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8E905-4CC1-4AD0-A864-61193F18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387CF-306B-46BD-85E3-3515129B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55AB2-B415-40C1-8163-0B8A05EB4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C008-DAEA-4E3D-857E-DF2ED44F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41B2F-E22D-4916-B61A-847C0D42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F8DC4-40F5-4F62-8674-3CA624B0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AEDB1-D7FE-43FA-940B-8A0CF1DE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CE4BA-E3F6-4F28-8CAB-5AFD05A9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9FEDB-09F6-47F7-9132-AE249775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736EF-436E-4F42-BB28-409AB5EF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7359E-3F5F-430B-A9E1-A6400895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E50C6-037B-4B15-B3BA-EEA02911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5F5C5-E7FD-4004-9760-E3207AD2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CE95F-0EED-48FE-BC01-3A1BF7C7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2C2E-3A5B-459C-8147-2A22C93B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41DAD-641E-47D2-9941-005ECB3B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51116-0521-4B73-A64A-47611CCA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B3DAF-21D6-46B6-B4F9-9A7D8838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44B67-ACDF-4583-B2EA-6D0706A3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80D20-059A-417C-A6A9-15018340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B2318-1CFF-4C46-ABB6-D4880CAE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4BC4A-B847-45BA-846F-CA904A2C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77AAC-0C54-49D1-93CC-C7E5CA39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632EF-D496-486F-B532-3CB70448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6E6E0-913B-4CD2-B69E-781F5D1F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D85-9478-4F1F-A2D3-DA848B4F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8F4C3-2346-41D3-BFC0-2132C2F3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82135-0ACD-40D1-99BA-73DEEE2D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6C2DB-A020-4EED-B979-E61EEE56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7CD7A-75BC-45CD-A094-727D136E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4CE4C-FAB8-4CE8-9B44-5F5FC5A5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16AEA-CA3C-4CF0-B6E5-56F0E52A5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1DF78-7600-4D97-9277-DE68BD29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D3DCB-9B5E-41A4-8FA5-9941A92B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36F65-80A4-4B13-BDCC-D9F5CBA9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D474E-B4CD-4835-8F1A-C8556955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72F0-CF95-48E2-8047-4CDE16FC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D27AD-2D1A-4D5F-AAD4-CF52AAAE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542CC-CEC5-45C6-8697-0A7206C4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DE6AB-C2EE-4089-9AD4-A03FEC04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086E7-7DE0-4719-9464-66884193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713D60-43E2-4624-BE16-4825349A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95977-8C37-4F61-97CA-82A60766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1854B-D294-4C8E-ABBD-51A532D2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0F8D7-5076-4DE9-B526-50A9E9623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D0F244-095A-4502-AADE-74E3A9DC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FFCDA-CD78-47B8-B911-74A4CBCF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67D5B-0DA0-4B8B-B100-6255D83BB4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676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280" y="63180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67000" y="634680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30640" y="634680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96EE4-14C9-4A5D-B6B4-D88820EDA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12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6080" y="656244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335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5AC60-2F90-459F-AF05-1E3C5AACD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12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556080" y="656244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335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8B58B-858E-4922-8E15-846FA990B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F0975-7964-4569-85AB-5746B842F8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03280" y="21603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05468-165D-4043-AB81-AD5CF7EAB0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1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B49DC-2D7F-4EEA-ACA4-6A0DBA277F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502920" y="6994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448080" y="6994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227720" y="6994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87A70-A87E-423C-8876-F76502AC2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622584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03280" y="79164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502920" y="537516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448080" y="537516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227720" y="537516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8BE4D3-5A4B-4FD6-B2E5-6B6761BB6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29920" y="1023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Creating a new government:</a:t>
            </a:r>
            <a:br>
              <a:rPr sz="4100"/>
            </a:br>
            <a:r>
              <a:rPr b="0" lang="en-US" sz="4100" spc="-1" strike="noStrike">
                <a:solidFill>
                  <a:srgbClr val="280099"/>
                </a:solidFill>
                <a:latin typeface="Arial"/>
              </a:rPr>
              <a:t>The U.S. Constitution</a:t>
            </a:r>
            <a:endParaRPr b="0" lang="en-US" sz="41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720360" y="197964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80099"/>
                </a:solidFill>
                <a:latin typeface="Arial"/>
              </a:rPr>
              <a:t>Breaking down the Preamble...</a:t>
            </a:r>
            <a:endParaRPr b="0" lang="en-US" sz="3600" spc="-1" strike="noStrike">
              <a:solidFill>
                <a:srgbClr val="280099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280099"/>
                </a:solidFill>
                <a:latin typeface="Arial"/>
              </a:rPr>
              <a:t>What are the purposes of government?</a:t>
            </a:r>
            <a:endParaRPr b="0" lang="en-US" sz="3600" spc="-1" strike="noStrike">
              <a:solidFill>
                <a:srgbClr val="2800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221292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280099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280099"/>
                </a:solidFill>
                <a:latin typeface="Arial"/>
              </a:rPr>
              <a:t>We the people...</a:t>
            </a:r>
            <a:endParaRPr b="0" lang="en-US" sz="60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45920" y="2743200"/>
            <a:ext cx="8854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s phrase establishes the idea of </a:t>
            </a:r>
            <a:r>
              <a:rPr b="1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popular sovereignty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:  the government gets its authority from </a:t>
            </a:r>
            <a:r>
              <a:rPr b="0" lang="en-US" sz="3200" spc="-1" strike="noStrike" u="sng">
                <a:solidFill>
                  <a:srgbClr val="000080"/>
                </a:solidFill>
                <a:uFillTx/>
                <a:latin typeface="Arial"/>
              </a:rPr>
              <a:t>the will of the peop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529920"/>
            <a:ext cx="9070920" cy="22129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 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in Order to form a more perfect Union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720360" y="3429000"/>
            <a:ext cx="885492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How do the states unite to act as a single nation, for the good of all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ff6633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What means does the government have to </a:t>
            </a:r>
            <a:r>
              <a:rPr b="0" lang="en-US" sz="3200" spc="-1" strike="noStrike" u="sng">
                <a:solidFill>
                  <a:srgbClr val="000080"/>
                </a:solidFill>
                <a:uFillTx/>
                <a:latin typeface="Arial"/>
                <a:ea typeface="Arial Unicode MS"/>
              </a:rPr>
              <a:t>improve itself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 (that is, to become “</a:t>
            </a:r>
            <a:r>
              <a:rPr b="0" i="1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more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 perfect”)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5920" y="840960"/>
            <a:ext cx="90691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0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establish Justice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33240" y="2722320"/>
            <a:ext cx="88538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Name as many institutions/professions as you can that are part of the justice system: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24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6000" spc="-1" strike="noStrike">
                <a:solidFill>
                  <a:srgbClr val="280099"/>
                </a:solidFill>
                <a:latin typeface="Arial"/>
                <a:ea typeface="Arial Unicode MS"/>
              </a:rPr>
              <a:t>insure domestic Tranquility,…</a:t>
            </a:r>
            <a:endParaRPr b="0" lang="en-US" sz="60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20360" y="3200400"/>
            <a:ext cx="885348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488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hat programs, laws, government offices, etc. does the government provide in order to keep people safe and make life run smoothly within the country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488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5440" y="647280"/>
            <a:ext cx="90694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provide for the common defence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20360" y="3200400"/>
            <a:ext cx="885348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69800"/>
                <a:tab algn="l" pos="582480"/>
                <a:tab algn="l" pos="1039680"/>
                <a:tab algn="l" pos="1496880"/>
                <a:tab algn="l" pos="1954080"/>
                <a:tab algn="l" pos="2411280"/>
                <a:tab algn="l" pos="2868480"/>
                <a:tab algn="l" pos="3325680"/>
                <a:tab algn="l" pos="3782880"/>
                <a:tab algn="l" pos="4240080"/>
                <a:tab algn="l" pos="4697280"/>
                <a:tab algn="l" pos="5154480"/>
                <a:tab algn="l" pos="5611680"/>
                <a:tab algn="l" pos="6068880"/>
                <a:tab algn="l" pos="6526080"/>
                <a:tab algn="l" pos="6983280"/>
                <a:tab algn="l" pos="7440480"/>
                <a:tab algn="l" pos="7897680"/>
                <a:tab algn="l" pos="8354880"/>
                <a:tab algn="l" pos="8812080"/>
                <a:tab algn="l" pos="9269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List all of the things the governments does, builds, creates, or maintains to defend our country.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90694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promote the general Welfare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20360" y="3657600"/>
            <a:ext cx="885348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69800"/>
                <a:tab algn="l" pos="582480"/>
                <a:tab algn="l" pos="1039680"/>
                <a:tab algn="l" pos="1496880"/>
                <a:tab algn="l" pos="1954080"/>
                <a:tab algn="l" pos="2411280"/>
                <a:tab algn="l" pos="2868480"/>
                <a:tab algn="l" pos="3325680"/>
                <a:tab algn="l" pos="3782880"/>
                <a:tab algn="l" pos="4240080"/>
                <a:tab algn="l" pos="4697280"/>
                <a:tab algn="l" pos="5154480"/>
                <a:tab algn="l" pos="5611680"/>
                <a:tab algn="l" pos="6068880"/>
                <a:tab algn="l" pos="6526080"/>
                <a:tab algn="l" pos="6983280"/>
                <a:tab algn="l" pos="7440480"/>
                <a:tab algn="l" pos="7897680"/>
                <a:tab algn="l" pos="8354880"/>
                <a:tab algn="l" pos="8812080"/>
                <a:tab algn="l" pos="9269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What does the government do to make life better, easier, healthier, and more pleasant for all its citizens and residents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1360" y="676440"/>
            <a:ext cx="9069480" cy="2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and secure the Blessings of Liberty to ourselves and our Posterity,…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20360" y="3657600"/>
            <a:ext cx="8853480" cy="3309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69800"/>
                <a:tab algn="l" pos="582480"/>
                <a:tab algn="l" pos="1039680"/>
                <a:tab algn="l" pos="1496880"/>
                <a:tab algn="l" pos="1954080"/>
                <a:tab algn="l" pos="2411280"/>
                <a:tab algn="l" pos="2868480"/>
                <a:tab algn="l" pos="3325680"/>
                <a:tab algn="l" pos="3782880"/>
                <a:tab algn="l" pos="4240080"/>
                <a:tab algn="l" pos="4697280"/>
                <a:tab algn="l" pos="5154480"/>
                <a:tab algn="l" pos="5611680"/>
                <a:tab algn="l" pos="6068880"/>
                <a:tab algn="l" pos="6526080"/>
                <a:tab algn="l" pos="6983280"/>
                <a:tab algn="l" pos="7440480"/>
                <a:tab algn="l" pos="7897680"/>
                <a:tab algn="l" pos="8354880"/>
                <a:tab algn="l" pos="8812080"/>
                <a:tab algn="l" pos="92692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  <a:ea typeface="Arial Unicode MS"/>
              </a:rPr>
              <a:t>What freedoms and privileges are guaranteed to everyone in the country, including future generations (posterity)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681120"/>
            <a:ext cx="9069480" cy="22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…</a:t>
            </a:r>
            <a:r>
              <a:rPr b="0" lang="en-US" sz="5400" spc="-1" strike="noStrike">
                <a:solidFill>
                  <a:srgbClr val="280099"/>
                </a:solidFill>
                <a:latin typeface="Arial"/>
                <a:ea typeface="Arial Unicode MS"/>
              </a:rPr>
              <a:t>do ordain and establish this Constitution for the United States of America.”</a:t>
            </a:r>
            <a:endParaRPr b="0" lang="en-US" sz="5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20360" y="3885840"/>
            <a:ext cx="8853480" cy="3081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o what kind of dealmaking had to take place in order for the Constitution to be created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03:23:47Z</dcterms:created>
  <dc:creator/>
  <dc:description/>
  <dc:language>en-US</dc:language>
  <cp:lastModifiedBy/>
  <cp:revision>1</cp:revision>
  <dc:subject/>
  <dc:title/>
</cp:coreProperties>
</file>